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592D-4C51-41D1-9F60-0F3ABBAA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2456-9CEB-4CE2-BC7F-FAC07839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FCBB-F32C-4CD7-AEB0-B4746B99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A44F-B780-44F6-A398-2B41B5616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41B1-92E4-4C74-B480-C39CCD4A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308A-9155-4361-92D7-CE5C482F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270D-2C79-4F85-A7CA-FA7438C1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F23A-957B-4C96-8762-E55C8A42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C200-68D7-4D85-BEBA-D4BF9348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3EED-D8F1-4F6E-AA46-7B454232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DEDE-B2A3-4D51-84BD-0A77FA14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36C1-32A4-4E61-A8EA-283CF90A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BD4C-8342-496F-B43B-3EEB8185227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8D79-63B5-4ACD-BC38-58B3673D7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3A33-E3BA-4B91-ABFD-5626CA13E64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CB6A5-ABB1-42D1-AA7E-7DC2ED894E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58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6574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0992-F65A-490C-AE30-D2817AF78AF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48363-4904-4648-B4A4-981C2FF2ED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505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o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4191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48006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3200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4AB7-20B7-4D68-AB59-28838F4F6A9B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4FC86-EA2D-48AB-90E1-033A8D3940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17C4-465A-4E68-AAA7-63CD5634FEA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98F22F-EE69-4B42-8C38-B8AF2E2532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E6DA-1F9D-4CBA-BA0F-773A005B237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EC4EE-5CDC-4A94-9A72-F369271ACC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9525-DBC2-41D7-9F25-06D56BA68D0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05B2F6-60FB-4B9E-B49A-0DCF884F55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DD31-A8CC-440A-9C6D-B88D2E178DE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33C077-95CA-4C53-8B11-3C6158C43C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2209680"/>
            <a:ext cx="32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209680"/>
            <a:ext cx="358128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2329-B283-4793-A97D-836DDA50D99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F4CF84-4B88-4EBB-B9DE-F68FFEF6A7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DD80-A53B-4877-8141-3514C2F295F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674AD-867C-47B5-AFC1-70DFA7BA8C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09840" y="201924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>
            <a:off x="1966680" y="2666880"/>
            <a:ext cx="52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9F0F-CEA1-44FC-81DB-7956E68F96F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F15BBD-8695-40CB-B471-D22000ED02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BF78-3527-48C9-A69D-96D26C566CD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007DC2-B42E-4490-8203-D72ABEA62F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E373-7314-4A8A-9688-3963F3A99C3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4D3DBC-9883-4BDD-B2B6-64B9F5AC0A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E37B-FD42-4793-8592-4D55DC5C96F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A173A6-4832-4346-B8DC-C4AE7FD94F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F53B-97E2-4705-8551-5D55F56A9E8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64A16B-8A22-4C1F-BA6E-505673A73E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Rand getInteger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D81F-CFCD-4157-90E4-25480CC1354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E59488-5F7B-404F-81F1-556305A6EF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B5B6-E866-4C92-AEC8-462CA3910E4F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F56F3-A590-4016-9F7E-20FB0DF1E9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2843-CABE-43BD-9987-02447CA47293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11C865-2F1E-4F48-8360-7BA17084CC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CDA1-443F-4B0B-B2C5-2ADF4AF5424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4DE62-E344-457D-A408-860BD63919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AEE5-BE11-468B-9C40-631C9618361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B3566D-ABAB-42D4-A710-0294D94BCA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923B-FBA7-41E7-94A3-4F5BD30FCDF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4DF995-56C2-40D1-9F68-4058A4DE9C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BA21-9FEC-4520-A58B-A714D82865C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A07E9-3AD6-4C35-B3BA-7F76DAE33E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2337-EE26-4F91-89B4-1D58B9332245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A3DF3A-EFAC-4D9A-915A-09B5DC9C6C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76E8-CE94-412F-8D3E-2A5F6A59C40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18DBD7-6F55-42DF-9426-30754FF040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hers and displays data on line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phs y values of function over range of x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81560" y="3975120"/>
            <a:ext cx="1052640" cy="67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910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31040" y="397512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248520" y="2057400"/>
            <a:ext cx="1052280" cy="669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62960" y="3970440"/>
            <a:ext cx="1052280" cy="669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431040" y="490860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2895480"/>
            <a:ext cx="1052640" cy="6717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53" idx="2"/>
            <a:endCxn id="447" idx="0"/>
          </p:cNvCxnSpPr>
          <p:nvPr/>
        </p:nvCxnSpPr>
        <p:spPr>
          <a:xfrm rot="5400000">
            <a:off x="6506640" y="2868480"/>
            <a:ext cx="408600" cy="1805760"/>
          </a:xfrm>
          <a:prstGeom prst="bentConnector3">
            <a:avLst>
              <a:gd name="adj1" fmla="val 497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/>
          <p:nvPr/>
        </p:nvCxnSpPr>
        <p:spPr>
          <a:xfrm flipH="1" rot="16200000">
            <a:off x="7699320" y="3494520"/>
            <a:ext cx="403920" cy="577080"/>
          </a:xfrm>
          <a:prstGeom prst="bentConnector3">
            <a:avLst>
              <a:gd name="adj1" fmla="val 46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49" idx="2"/>
            <a:endCxn id="452" idx="0"/>
          </p:cNvCxnSpPr>
          <p:nvPr/>
        </p:nvCxnSpPr>
        <p:spPr>
          <a:xfrm>
            <a:off x="6955920" y="4647960"/>
            <a:ext cx="108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0" idx="1"/>
            <a:endCxn id="448" idx="0"/>
          </p:cNvCxnSpPr>
          <p:nvPr/>
        </p:nvCxnSpPr>
        <p:spPr>
          <a:xfrm flipV="1" rot="10800000">
            <a:off x="5117400" y="2391840"/>
            <a:ext cx="113112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  <a:endCxn id="453" idx="0"/>
          </p:cNvCxnSpPr>
          <p:nvPr/>
        </p:nvCxnSpPr>
        <p:spPr>
          <a:xfrm>
            <a:off x="7300440" y="2392200"/>
            <a:ext cx="31356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58672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0" idx="2"/>
            <a:endCxn id="459" idx="0"/>
          </p:cNvCxnSpPr>
          <p:nvPr/>
        </p:nvCxnSpPr>
        <p:spPr>
          <a:xfrm rot="5400000">
            <a:off x="6500160" y="2620440"/>
            <a:ext cx="168840" cy="381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69343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A3F0-3C22-4B32-B5C8-DC8F32599D1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C50784-B87E-4FC3-AF66-377D3205BE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82BD-F7A2-4840-AFBD-19ED2086A986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2AB1E-A806-4975-90A3-CB1C0D9176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9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stCxn id="467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72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16A2-4D81-49D8-8555-3B5B6D53DC97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98C249-CBC5-4C34-8DEE-47472B6522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ADC9-E6ED-46C2-BD59-E15DB2F4EBF9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AFDD0B-553E-408F-8733-05446DE8ED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3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5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2D20-8153-442D-9E7C-53BAE4613FC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F44DD-F037-4462-A88E-4F1E8EF69B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FB3C-7159-4ACE-B9E7-D00FC00A787F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76D7AE-9C9C-468F-B2FA-C24DFACB0A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94" idx="1"/>
            <a:endCxn id="498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9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498" idx="2"/>
            <a:endCxn id="493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501" idx="2"/>
            <a:endCxn id="493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098F-2402-46A9-99EA-35C97AC0563F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7627BE-A20B-4CB8-8F56-6B888620E7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8" name=""/>
          <p:cNvCxnSpPr>
            <a:stCxn id="509" idx="3"/>
            <a:endCxn id="510" idx="2"/>
          </p:cNvCxnSpPr>
          <p:nvPr/>
        </p:nvCxnSpPr>
        <p:spPr>
          <a:xfrm>
            <a:off x="4723920" y="2971800"/>
            <a:ext cx="877320" cy="381600"/>
          </a:xfrm>
          <a:prstGeom prst="curvedConnector5">
            <a:avLst>
              <a:gd name="adj1" fmla="val 17364"/>
              <a:gd name="adj2" fmla="val 79981"/>
              <a:gd name="adj3" fmla="val 17364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1" name=""/>
          <p:cNvCxnSpPr>
            <a:stCxn id="509" idx="3"/>
            <a:endCxn id="512" idx="2"/>
          </p:cNvCxnSpPr>
          <p:nvPr/>
        </p:nvCxnSpPr>
        <p:spPr>
          <a:xfrm>
            <a:off x="4723920" y="2971800"/>
            <a:ext cx="2248920" cy="381600"/>
          </a:xfrm>
          <a:prstGeom prst="curvedConnector5">
            <a:avLst>
              <a:gd name="adj1" fmla="val 37271"/>
              <a:gd name="adj2" fmla="val 79981"/>
              <a:gd name="adj3" fmla="val 37271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0292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14" idx="2"/>
            <a:endCxn id="509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9" idx="1"/>
            <a:endCxn id="515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09" idx="3"/>
            <a:endCxn id="516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5" idx="1"/>
            <a:endCxn id="517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5" idx="3"/>
            <a:endCxn id="518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18" idx="2"/>
            <a:endCxn id="519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4FA8-4405-44AC-8B28-9AA225BA324F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519D40-BA8A-48D7-A519-72A8B3435A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7" name=""/>
          <p:cNvCxnSpPr>
            <a:stCxn id="528" idx="3"/>
            <a:endCxn id="529" idx="2"/>
          </p:cNvCxnSpPr>
          <p:nvPr/>
        </p:nvCxnSpPr>
        <p:spPr>
          <a:xfrm>
            <a:off x="6325920" y="2928600"/>
            <a:ext cx="592920" cy="254520"/>
          </a:xfrm>
          <a:prstGeom prst="curvedConnector5">
            <a:avLst>
              <a:gd name="adj1" fmla="val 17132"/>
              <a:gd name="adj2" fmla="val 94900"/>
              <a:gd name="adj3" fmla="val 17132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30" name=""/>
          <p:cNvCxnSpPr>
            <a:stCxn id="528" idx="3"/>
            <a:endCxn id="531" idx="2"/>
          </p:cNvCxnSpPr>
          <p:nvPr/>
        </p:nvCxnSpPr>
        <p:spPr>
          <a:xfrm>
            <a:off x="6326280" y="2928600"/>
            <a:ext cx="1529280" cy="254520"/>
          </a:xfrm>
          <a:prstGeom prst="curvedConnector5">
            <a:avLst>
              <a:gd name="adj1" fmla="val 37273"/>
              <a:gd name="adj2" fmla="val 94900"/>
              <a:gd name="adj3" fmla="val 37273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2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31120" y="2670120"/>
            <a:ext cx="7729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467480" y="267012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67012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2" idx="2"/>
            <a:endCxn id="528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8" idx="1"/>
            <a:endCxn id="533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28" idx="3"/>
            <a:endCxn id="534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3" idx="1"/>
            <a:endCxn id="535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3" idx="3"/>
            <a:endCxn id="536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36" idx="2"/>
            <a:endCxn id="537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BCD8-3519-45D0-9990-05D4D7C972D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2C936-26C1-4402-A150-568B56E8F6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8140-D77B-487A-9E81-3A3274A4106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728C26-7B25-47D3-84AA-858D4F16C0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68B1-D145-4213-BCB7-52A29FC08F5D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0B8C32-49DF-4948-B333-8E362A2379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06F5-E2EC-43D4-8874-B897A669E04D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867728-2DDA-4764-BF63-EF6C8560FE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E258-1629-464E-87B4-F48FEBE21754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987AF0-9B98-4789-ADB8-765014A66B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5B6B-C2EC-4F7B-A998-631E73BDF96B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FB022-97B4-4E32-9E65-FD871EAEBC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TkObjC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2" idx="1"/>
            <a:endCxn id="563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3"/>
            <a:endCxn id="565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stCxn id="562" idx="2"/>
            <a:endCxn id="567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"/>
          <p:cNvCxnSpPr/>
          <p:nvPr/>
        </p:nvCxnSpPr>
        <p:spPr>
          <a:xfrm>
            <a:off x="5638320" y="3123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E620-4022-46C0-AE01-016254E3EF5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EBAA12-DD87-44BC-890D-24250B7141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2419-95AE-4748-A8B5-CE80C213A5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341C41-BC0F-4961-B972-18E428A02A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F1CD-FE63-472D-9DE0-065BF6F3B018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DFD184-B43C-4F1C-80EE-7EFBABD481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C406-4DCA-43C5-AA6A-5538245CC32A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BA3E7-6508-4FCC-AB1E-EA329E9E15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62DE-1DFB-449C-8662-F014D6EF0AC8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C2B69-EB92-4775-A5DB-CEC309A3EE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0FCE-D3C7-41F8-82AB-91ECB6FB79FD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C27100-9690-433D-A147-D8B9CB5960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Office</cp:lastModifiedBy>
  <cp:lastPrinted>1998-03-19T09:02:27Z</cp:lastPrinted>
  <dcterms:modified xsi:type="dcterms:W3CDTF">1999-04-02T03:37:47Z</dcterms:modified>
  <cp:revision>19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