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1417-35C6-4A83-9D08-64E01CA5F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04880" y="401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5F44-E491-4EF8-84A1-0F57DEC57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756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04880" y="401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7560" y="401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ED32-0F23-4446-A088-CAEFDAC1D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32880" y="186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0520" y="186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04880" y="401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32880" y="401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0520" y="401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6DE4-1460-45FF-93D9-A99C9FF85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D95E-26B3-4A95-AA7B-00E6E2646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71E6-F2AA-4BE0-93FF-803870373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7560" y="18669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82EB-678E-40CD-AB6A-49678E36A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82A4-90C1-4D77-BBD4-528D71857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12AA-5940-4BAF-94B4-5BC2F5380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7560" y="18669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04880" y="401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AB6E-6A63-4391-A5C3-503239009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756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7560" y="401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D56A-F6F0-4274-91B9-2302AFDE2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756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04880" y="401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39F5-2114-4F69-85B4-4B62CB11E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E5EFC-77EE-414B-9D37-6AE6887758B9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49683-2F9E-4754-A369-8F9E6C92E5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armfest ‘99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u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ssion I: 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nedikt Stefans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benedikt@ucla.edu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face vs. implem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WATCHC1" descr=""/>
          <p:cNvPicPr/>
          <p:nvPr/>
        </p:nvPicPr>
        <p:blipFill>
          <a:blip r:embed="rId1"/>
          <a:stretch/>
        </p:blipFill>
        <p:spPr>
          <a:xfrm>
            <a:off x="3005280" y="1943280"/>
            <a:ext cx="3651120" cy="28000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419720" y="4813200"/>
            <a:ext cx="4152960" cy="1191240"/>
          </a:xfrm>
          <a:prstGeom prst="borderCallout1">
            <a:avLst>
              <a:gd name="adj1" fmla="val 18750"/>
              <a:gd name="adj2" fmla="val -8333"/>
              <a:gd name="adj3" fmla="val -104740"/>
              <a:gd name="adj4" fmla="val -5953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only has to be familiar with the interface of an object, not it’s 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66720" y="5052960"/>
            <a:ext cx="3029040" cy="825480"/>
          </a:xfrm>
          <a:prstGeom prst="borderCallout1">
            <a:avLst>
              <a:gd name="adj1" fmla="val 18750"/>
              <a:gd name="adj2" fmla="val -8333"/>
              <a:gd name="adj3" fmla="val -216171"/>
              <a:gd name="adj4" fmla="val 109162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s hide their functions an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41DF-8DC2-4DE7-BB99-570D54E94DE1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92545C-081E-4894-9F84-2F8CFA08169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termin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definition of an object and the object fac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er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class that an object inherits behavior and variables from (recursiv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class that inherits behavior and variables from a super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704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object (instance of a class) that has been created and exists i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variable available to all functions in an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function. Can be called by sending message to an object of this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7AD0-9FFC-4E12-A705-C648E486DECB}" type="slidenum">
              <a:t>1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13C2B8-B252-440C-B8AF-A08E97B059D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4746600" y="2035080"/>
            <a:ext cx="938160" cy="957240"/>
          </a:xfrm>
          <a:prstGeom prst="ellipse">
            <a:avLst/>
          </a:prstGeom>
          <a:solidFill>
            <a:srgbClr val="66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three principles of OO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aps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s hide their functions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data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stance variable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method variabl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ubcla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herits all variables of its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uper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ymorph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instances of same class, sharing behavior but not state or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08680" y="2035080"/>
            <a:ext cx="938160" cy="95724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99000" y="3476520"/>
            <a:ext cx="541440" cy="54144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200560" y="5576760"/>
            <a:ext cx="5637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637160" y="528336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986440" y="2540160"/>
            <a:ext cx="83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172120" y="528336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742000" y="528336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237360" y="528336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786720" y="5283360"/>
            <a:ext cx="54108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440400" y="4253040"/>
            <a:ext cx="541440" cy="54108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689360" y="4270320"/>
            <a:ext cx="541440" cy="54144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62" idx="4"/>
            <a:endCxn id="171" idx="0"/>
          </p:cNvCxnSpPr>
          <p:nvPr/>
        </p:nvCxnSpPr>
        <p:spPr>
          <a:xfrm rot="5400000">
            <a:off x="5238720" y="3738960"/>
            <a:ext cx="253080" cy="810360"/>
          </a:xfrm>
          <a:prstGeom prst="bentConnector3">
            <a:avLst>
              <a:gd name="adj1" fmla="val 4957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3" name=""/>
          <p:cNvCxnSpPr>
            <a:stCxn id="162" idx="4"/>
            <a:endCxn id="170" idx="0"/>
          </p:cNvCxnSpPr>
          <p:nvPr/>
        </p:nvCxnSpPr>
        <p:spPr>
          <a:xfrm flipH="1" rot="16200000">
            <a:off x="6122520" y="3664440"/>
            <a:ext cx="235800" cy="942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74" name=""/>
          <p:cNvSpPr/>
          <p:nvPr/>
        </p:nvSpPr>
        <p:spPr>
          <a:xfrm>
            <a:off x="6270840" y="3527280"/>
            <a:ext cx="15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er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109640" y="4403880"/>
            <a:ext cx="157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319880" y="526428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853400" y="526428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089840" y="2035080"/>
            <a:ext cx="938160" cy="95724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167600" y="2540160"/>
            <a:ext cx="83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830840" y="2527200"/>
            <a:ext cx="83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B591-CE66-465C-A08E-29FFF4E8295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391703-B13B-4D8E-A097-61B7640A6C9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e event simu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301760" y="2771640"/>
            <a:ext cx="990720" cy="2514600"/>
          </a:xfrm>
          <a:custGeom>
            <a:avLst/>
            <a:gdLst>
              <a:gd name="textAreaLeft" fmla="*/ 132480 w 990720"/>
              <a:gd name="textAreaRight" fmla="*/ 858240 w 990720"/>
              <a:gd name="textAreaTop" fmla="*/ 439920 h 2514600"/>
              <a:gd name="textAreaBottom" fmla="*/ 1823040 h 251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rot="10899600">
            <a:off x="4077720" y="2585160"/>
            <a:ext cx="990360" cy="2590920"/>
          </a:xfrm>
          <a:custGeom>
            <a:avLst/>
            <a:gdLst>
              <a:gd name="textAreaLeft" fmla="*/ 132480 w 990360"/>
              <a:gd name="textAreaRight" fmla="*/ 857880 w 990360"/>
              <a:gd name="textAreaTop" fmla="*/ 453240 h 2590920"/>
              <a:gd name="textAreaBottom" fmla="*/ 1878480 h 259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286000" y="1905120"/>
            <a:ext cx="1600200" cy="160020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68360" y="4062240"/>
            <a:ext cx="1600200" cy="160020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544840" y="2421000"/>
            <a:ext cx="247680" cy="627120"/>
          </a:xfrm>
          <a:custGeom>
            <a:avLst/>
            <a:gdLst>
              <a:gd name="textAreaLeft" fmla="*/ 33120 w 247680"/>
              <a:gd name="textAreaRight" fmla="*/ 214560 w 247680"/>
              <a:gd name="textAreaTop" fmla="*/ 109800 h 627120"/>
              <a:gd name="textAreaBottom" fmla="*/ 454680 h 6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rot="10899600">
            <a:off x="3433680" y="2362320"/>
            <a:ext cx="247680" cy="645840"/>
          </a:xfrm>
          <a:custGeom>
            <a:avLst/>
            <a:gdLst>
              <a:gd name="textAreaLeft" fmla="*/ 33120 w 247680"/>
              <a:gd name="textAreaRight" fmla="*/ 214560 w 247680"/>
              <a:gd name="textAreaTop" fmla="*/ 113040 h 645840"/>
              <a:gd name="textAreaBottom" fmla="*/ 468360 h 645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825640" y="2057400"/>
            <a:ext cx="398520" cy="3999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789280" y="2666880"/>
            <a:ext cx="398520" cy="4003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438280" y="4559400"/>
            <a:ext cx="247680" cy="627120"/>
          </a:xfrm>
          <a:custGeom>
            <a:avLst/>
            <a:gdLst>
              <a:gd name="textAreaLeft" fmla="*/ 33120 w 247680"/>
              <a:gd name="textAreaRight" fmla="*/ 214560 w 247680"/>
              <a:gd name="textAreaTop" fmla="*/ 109800 h 627120"/>
              <a:gd name="textAreaBottom" fmla="*/ 454680 h 6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rot="10899600">
            <a:off x="3294000" y="4501800"/>
            <a:ext cx="247680" cy="646200"/>
          </a:xfrm>
          <a:custGeom>
            <a:avLst/>
            <a:gdLst>
              <a:gd name="textAreaLeft" fmla="*/ 33120 w 247680"/>
              <a:gd name="textAreaRight" fmla="*/ 214560 w 247680"/>
              <a:gd name="textAreaTop" fmla="*/ 113040 h 646200"/>
              <a:gd name="textAreaBottom" fmla="*/ 468720 h 64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35280" y="4214880"/>
            <a:ext cx="398520" cy="3999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735280" y="4824360"/>
            <a:ext cx="398520" cy="3999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276880" y="1866960"/>
            <a:ext cx="3200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ulation proceeds in discrete time ste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action between agents or procedures within simulation may have own event sched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8879-48E5-4BFD-AC0F-4B63C7FAEAD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1866A8-FAC5-422D-8109-9D7296FFCA5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ulation in procedural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parameters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e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step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m_ag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ent-i-do-some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w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562720" y="3362400"/>
            <a:ext cx="2819160" cy="1557000"/>
          </a:xfrm>
          <a:prstGeom prst="borderCallout1">
            <a:avLst>
              <a:gd name="adj1" fmla="val 18750"/>
              <a:gd name="adj2" fmla="val -8333"/>
              <a:gd name="adj3" fmla="val 30972"/>
              <a:gd name="adj4" fmla="val -1710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 must provide data structure to save agent’s state and implement 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267080" y="2084400"/>
            <a:ext cx="4419720" cy="825480"/>
          </a:xfrm>
          <a:prstGeom prst="borderCallout1">
            <a:avLst>
              <a:gd name="adj1" fmla="val 18750"/>
              <a:gd name="adj2" fmla="val -8333"/>
              <a:gd name="adj3" fmla="val 61504"/>
              <a:gd name="adj4" fmla="val -44282"/>
            </a:avLst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ly set’s up data structures and support for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809880" y="5105520"/>
            <a:ext cx="4445280" cy="825480"/>
          </a:xfrm>
          <a:prstGeom prst="borderCallout1">
            <a:avLst>
              <a:gd name="adj1" fmla="val 18750"/>
              <a:gd name="adj2" fmla="val -8333"/>
              <a:gd name="adj3" fmla="val -21444"/>
              <a:gd name="adj4" fmla="val -14282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ementation of output often left to the program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466B-3195-4DB4-81FF-A57B4F4DB23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A059BD-05F7-4950-A25D-5819E1C0524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500120" y="2822400"/>
            <a:ext cx="6597720" cy="3264120"/>
          </a:xfrm>
          <a:prstGeom prst="ellipse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(Swarm) OOP w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093760" y="3618000"/>
            <a:ext cx="935280" cy="9349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919080" y="2521080"/>
            <a:ext cx="1322640" cy="132228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657760" y="2990880"/>
            <a:ext cx="935280" cy="9349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27520" y="3794040"/>
            <a:ext cx="1180800" cy="265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016520" y="3200400"/>
            <a:ext cx="934920" cy="9349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rot="2218800">
            <a:off x="2655360" y="4475160"/>
            <a:ext cx="1181160" cy="264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556080" y="4549680"/>
            <a:ext cx="934920" cy="93528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7536200">
            <a:off x="5159880" y="4229640"/>
            <a:ext cx="1180800" cy="264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921200" y="4900680"/>
            <a:ext cx="934920" cy="9349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156360" y="4498920"/>
            <a:ext cx="619200" cy="70632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750000" y="3592440"/>
            <a:ext cx="619200" cy="70668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3" name=""/>
          <p:cNvCxnSpPr/>
          <p:nvPr/>
        </p:nvCxnSpPr>
        <p:spPr>
          <a:xfrm>
            <a:off x="2313000" y="3076200"/>
            <a:ext cx="1775520" cy="486360"/>
          </a:xfrm>
          <a:prstGeom prst="curvedConnector5">
            <a:avLst>
              <a:gd name="adj1" fmla="val 49989"/>
              <a:gd name="adj2" fmla="val 50000"/>
              <a:gd name="adj3" fmla="val 49989"/>
            </a:avLst>
          </a:prstGeom>
          <a:ln w="76320">
            <a:solidFill>
              <a:srgbClr val="00cc99"/>
            </a:solidFill>
            <a:miter/>
            <a:tailEnd len="med" type="triangle" w="med"/>
          </a:ln>
        </p:spPr>
      </p:cxnSp>
      <p:sp>
        <p:nvSpPr>
          <p:cNvPr id="214" name=""/>
          <p:cNvSpPr/>
          <p:nvPr/>
        </p:nvSpPr>
        <p:spPr>
          <a:xfrm>
            <a:off x="652320" y="4686480"/>
            <a:ext cx="4530960" cy="1191240"/>
          </a:xfrm>
          <a:prstGeom prst="borderCallout1">
            <a:avLst>
              <a:gd name="adj1" fmla="val 18750"/>
              <a:gd name="adj2" fmla="val -8333"/>
              <a:gd name="adj3" fmla="val -116250"/>
              <a:gd name="adj4" fmla="val 12305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agent saves his own behavior and state and acts when called upon by scheduler or other 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106720" y="1854360"/>
            <a:ext cx="6243480" cy="825480"/>
          </a:xfrm>
          <a:prstGeom prst="borderCallout1">
            <a:avLst>
              <a:gd name="adj1" fmla="val 18750"/>
              <a:gd name="adj2" fmla="val -8333"/>
              <a:gd name="adj3" fmla="val 123625"/>
              <a:gd name="adj4" fmla="val -6879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event loop is now embedded in an object that sends messages to agents and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rot="4062000">
            <a:off x="1023480" y="2897280"/>
            <a:ext cx="730440" cy="129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rot="9147600">
            <a:off x="1387080" y="2989080"/>
            <a:ext cx="728640" cy="91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FA2C-D054-4EAA-8E0A-FF8B19CAE58E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BCC1B0-2B45-40FD-8FAA-BECB5BA99C2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warm is an object that imp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mory al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t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basic Swarm simulation consists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89640" y="4529160"/>
            <a:ext cx="3809880" cy="1295280"/>
          </a:xfrm>
          <a:prstGeom prst="ellipse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869000" y="4929120"/>
            <a:ext cx="520560" cy="52092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168880" y="4718160"/>
            <a:ext cx="520560" cy="52056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335560" y="5065560"/>
            <a:ext cx="520560" cy="52092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638680" y="4716360"/>
            <a:ext cx="520920" cy="52092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889600" y="5003640"/>
            <a:ext cx="520560" cy="52092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521400" y="4859280"/>
            <a:ext cx="689040" cy="655560"/>
          </a:xfrm>
          <a:prstGeom prst="rect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738840" y="4694400"/>
            <a:ext cx="689040" cy="655560"/>
          </a:xfrm>
          <a:prstGeom prst="rect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655520" y="4233960"/>
            <a:ext cx="1049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989320" y="5821200"/>
            <a:ext cx="2349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nimate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667400" y="2608200"/>
            <a:ext cx="3809880" cy="1295640"/>
          </a:xfrm>
          <a:prstGeom prst="ellipse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638760" y="2789280"/>
            <a:ext cx="622440" cy="888840"/>
            <a:chOff x="6638760" y="2789280"/>
            <a:chExt cx="622440" cy="888840"/>
          </a:xfrm>
        </p:grpSpPr>
        <p:sp>
          <p:nvSpPr>
            <p:cNvPr id="232" name=""/>
            <p:cNvSpPr/>
            <p:nvPr/>
          </p:nvSpPr>
          <p:spPr>
            <a:xfrm>
              <a:off x="6638760" y="2789280"/>
              <a:ext cx="622440" cy="8888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688080" y="2889000"/>
              <a:ext cx="523800" cy="1382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688080" y="3290760"/>
              <a:ext cx="523800" cy="1364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688080" y="3089160"/>
              <a:ext cx="523800" cy="1382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688080" y="3490920"/>
              <a:ext cx="523800" cy="1364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5295960" y="2911320"/>
            <a:ext cx="901800" cy="7495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403960" y="3030480"/>
            <a:ext cx="660240" cy="546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448240" y="2746440"/>
            <a:ext cx="901800" cy="7491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556240" y="2865600"/>
            <a:ext cx="660240" cy="545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869720" y="2206800"/>
            <a:ext cx="1203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dg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394040" y="2130480"/>
            <a:ext cx="1015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791400" y="2889360"/>
            <a:ext cx="622080" cy="8888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840360" y="2989440"/>
            <a:ext cx="524160" cy="1378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40360" y="3390840"/>
            <a:ext cx="524160" cy="13644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840360" y="3189240"/>
            <a:ext cx="524160" cy="13824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840360" y="3591000"/>
            <a:ext cx="524160" cy="13644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264360" y="2011320"/>
            <a:ext cx="352440" cy="35244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9" name=""/>
          <p:cNvCxnSpPr>
            <a:stCxn id="248" idx="4"/>
            <a:endCxn id="230" idx="0"/>
          </p:cNvCxnSpPr>
          <p:nvPr/>
        </p:nvCxnSpPr>
        <p:spPr>
          <a:xfrm flipH="1" rot="16200000">
            <a:off x="6384240" y="2419200"/>
            <a:ext cx="244800" cy="132480"/>
          </a:xfrm>
          <a:prstGeom prst="bentConnector3">
            <a:avLst>
              <a:gd name="adj1" fmla="val 4992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0" name=""/>
          <p:cNvCxnSpPr>
            <a:stCxn id="230" idx="4"/>
            <a:endCxn id="220" idx="0"/>
          </p:cNvCxnSpPr>
          <p:nvPr/>
        </p:nvCxnSpPr>
        <p:spPr>
          <a:xfrm rot="5400000">
            <a:off x="6220080" y="4177440"/>
            <a:ext cx="626040" cy="784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1" name=""/>
          <p:cNvCxnSpPr>
            <a:stCxn id="228" idx="1"/>
            <a:endCxn id="221" idx="3"/>
          </p:cNvCxnSpPr>
          <p:nvPr/>
        </p:nvCxnSpPr>
        <p:spPr>
          <a:xfrm flipH="1" flipV="1" rot="10800000">
            <a:off x="4655880" y="4461480"/>
            <a:ext cx="289440" cy="911880"/>
          </a:xfrm>
          <a:prstGeom prst="curvedConnector5">
            <a:avLst>
              <a:gd name="adj1" fmla="val -79078"/>
              <a:gd name="adj2" fmla="val 66706"/>
              <a:gd name="adj3" fmla="val -7907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2" name=""/>
          <p:cNvCxnSpPr>
            <a:stCxn id="229" idx="3"/>
            <a:endCxn id="227" idx="3"/>
          </p:cNvCxnSpPr>
          <p:nvPr/>
        </p:nvCxnSpPr>
        <p:spPr>
          <a:xfrm flipH="1" flipV="1">
            <a:off x="7427520" y="5022000"/>
            <a:ext cx="905760" cy="1027800"/>
          </a:xfrm>
          <a:prstGeom prst="curvedConnector5">
            <a:avLst>
              <a:gd name="adj1" fmla="val -25248"/>
              <a:gd name="adj2" fmla="val 50000"/>
              <a:gd name="adj3" fmla="val -2524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3" name=""/>
          <p:cNvCxnSpPr>
            <a:stCxn id="241" idx="1"/>
            <a:endCxn id="237" idx="1"/>
          </p:cNvCxnSpPr>
          <p:nvPr/>
        </p:nvCxnSpPr>
        <p:spPr>
          <a:xfrm flipH="1" flipV="1" rot="10800000">
            <a:off x="4871520" y="2434320"/>
            <a:ext cx="424800" cy="851400"/>
          </a:xfrm>
          <a:prstGeom prst="curvedConnector5">
            <a:avLst>
              <a:gd name="adj1" fmla="val -53859"/>
              <a:gd name="adj2" fmla="val 50000"/>
              <a:gd name="adj3" fmla="val -5385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4" name=""/>
          <p:cNvCxnSpPr>
            <a:stCxn id="242" idx="3"/>
            <a:endCxn id="243" idx="3"/>
          </p:cNvCxnSpPr>
          <p:nvPr/>
        </p:nvCxnSpPr>
        <p:spPr>
          <a:xfrm flipH="1">
            <a:off x="7412760" y="2358720"/>
            <a:ext cx="996120" cy="975240"/>
          </a:xfrm>
          <a:prstGeom prst="curvedConnector5">
            <a:avLst>
              <a:gd name="adj1" fmla="val -22957"/>
              <a:gd name="adj2" fmla="val 50000"/>
              <a:gd name="adj3" fmla="val -22957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255" name=""/>
          <p:cNvSpPr/>
          <p:nvPr/>
        </p:nvSpPr>
        <p:spPr>
          <a:xfrm>
            <a:off x="7086240" y="373392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912560" y="561672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A22C-34DA-4678-9AA6-BABD459C7672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A758FC-AF76-46D0-8E6D-B576F278AFB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warm as a virtual compu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37240" y="2155680"/>
            <a:ext cx="1567080" cy="11541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840200" y="4437000"/>
            <a:ext cx="3251160" cy="77148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840200" y="3481560"/>
            <a:ext cx="3251160" cy="77148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836960" y="2155680"/>
            <a:ext cx="1568520" cy="115416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068080" y="4632480"/>
            <a:ext cx="2793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rating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381280" y="3689280"/>
            <a:ext cx="2167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warm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333040" y="2857680"/>
            <a:ext cx="727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874560" y="2827440"/>
            <a:ext cx="1065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737240" y="2071800"/>
            <a:ext cx="3481200" cy="2243160"/>
          </a:xfrm>
          <a:prstGeom prst="rect">
            <a:avLst/>
          </a:prstGeom>
          <a:noFill/>
          <a:ln w="507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310440" y="2571840"/>
            <a:ext cx="40932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348240" y="2906640"/>
            <a:ext cx="43344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010120" y="2222640"/>
            <a:ext cx="917640" cy="652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116680" y="2274840"/>
            <a:ext cx="704520" cy="53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186520" y="2398680"/>
            <a:ext cx="599760" cy="335160"/>
          </a:xfrm>
          <a:custGeom>
            <a:avLst/>
            <a:gdLst/>
            <a:ahLst/>
            <a:rect l="l" t="t" r="r" b="b"/>
            <a:pathLst>
              <a:path w="378" h="211">
                <a:moveTo>
                  <a:pt x="0" y="211"/>
                </a:moveTo>
                <a:cubicBezTo>
                  <a:pt x="22" y="179"/>
                  <a:pt x="28" y="149"/>
                  <a:pt x="56" y="122"/>
                </a:cubicBezTo>
                <a:cubicBezTo>
                  <a:pt x="57" y="119"/>
                  <a:pt x="73" y="47"/>
                  <a:pt x="100" y="67"/>
                </a:cubicBezTo>
                <a:cubicBezTo>
                  <a:pt x="115" y="78"/>
                  <a:pt x="105" y="104"/>
                  <a:pt x="111" y="122"/>
                </a:cubicBezTo>
                <a:cubicBezTo>
                  <a:pt x="116" y="135"/>
                  <a:pt x="127" y="144"/>
                  <a:pt x="133" y="156"/>
                </a:cubicBezTo>
                <a:cubicBezTo>
                  <a:pt x="138" y="166"/>
                  <a:pt x="141" y="178"/>
                  <a:pt x="145" y="189"/>
                </a:cubicBezTo>
                <a:cubicBezTo>
                  <a:pt x="202" y="151"/>
                  <a:pt x="211" y="89"/>
                  <a:pt x="278" y="67"/>
                </a:cubicBezTo>
                <a:cubicBezTo>
                  <a:pt x="295" y="13"/>
                  <a:pt x="307" y="36"/>
                  <a:pt x="345" y="0"/>
                </a:cubicBezTo>
                <a:cubicBezTo>
                  <a:pt x="356" y="4"/>
                  <a:pt x="378" y="11"/>
                  <a:pt x="378" y="1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08680" y="2540160"/>
            <a:ext cx="246240" cy="245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491240" y="2252520"/>
            <a:ext cx="246240" cy="246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238880" y="2598840"/>
            <a:ext cx="246240" cy="245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74" idx="1"/>
            <a:endCxn id="272" idx="5"/>
          </p:cNvCxnSpPr>
          <p:nvPr/>
        </p:nvCxnSpPr>
        <p:spPr>
          <a:xfrm flipH="1">
            <a:off x="7017480" y="2635200"/>
            <a:ext cx="258120" cy="11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72" idx="7"/>
            <a:endCxn id="273" idx="2"/>
          </p:cNvCxnSpPr>
          <p:nvPr/>
        </p:nvCxnSpPr>
        <p:spPr>
          <a:xfrm flipH="1" flipV="1" rot="5400000">
            <a:off x="7154280" y="2239560"/>
            <a:ext cx="200880" cy="4737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7" name=""/>
          <p:cNvCxnSpPr>
            <a:stCxn id="274" idx="6"/>
            <a:endCxn id="273" idx="5"/>
          </p:cNvCxnSpPr>
          <p:nvPr/>
        </p:nvCxnSpPr>
        <p:spPr>
          <a:xfrm flipV="1">
            <a:off x="7485120" y="2461680"/>
            <a:ext cx="216720" cy="26136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mputer’s CPU executes program instru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arm kernel is virtual CPU running model and GUI ev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sted Swarms merge activity schedules into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834080" y="5261040"/>
            <a:ext cx="3251160" cy="77148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046200" y="5384880"/>
            <a:ext cx="826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099040" y="32367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734160" y="32367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146640" y="41655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099120" y="5000760"/>
            <a:ext cx="212760" cy="423720"/>
          </a:xfrm>
          <a:prstGeom prst="downArrow">
            <a:avLst>
              <a:gd name="adj1" fmla="val 50000"/>
              <a:gd name="adj2" fmla="val 49788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5764320" y="32367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7488360" y="32367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6657840" y="41655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6669000" y="5000040"/>
            <a:ext cx="212760" cy="423720"/>
          </a:xfrm>
          <a:prstGeom prst="downArrow">
            <a:avLst>
              <a:gd name="adj1" fmla="val 50000"/>
              <a:gd name="adj2" fmla="val 49788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C259-E946-4931-A65C-BCB0F991AF5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3265CD-D741-40B5-B951-E145E48ADDC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Activity fra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s abstractions that allow programmer to treat event scheduling in the artificial world as objects, separate from elements of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 some useful shorthand to group actions and sort according to the desired order of ev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ce schedules are objects, all agents in simulation can communicate with them, to schedule future events or cause actions to be dropped based on specified contingen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20B4-DA9A-474A-A830-B12D4271E297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596D17-C6B8-4557-876F-28B16A90D81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 flipV="1">
            <a:off x="7818480" y="5211360"/>
            <a:ext cx="1440" cy="514440"/>
          </a:xfrm>
          <a:prstGeom prst="line">
            <a:avLst/>
          </a:prstGeom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ements of Activity libr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ity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ordered set of “simultaneous” eve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dered set of events or groups of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armActiv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lying VM executing schedul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162400" y="2152800"/>
            <a:ext cx="1714680" cy="971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223600" y="221292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e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223600" y="265104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991200" y="2152800"/>
            <a:ext cx="1714680" cy="476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033320" y="219384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33800" y="4324320"/>
            <a:ext cx="361980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257800" y="4191120"/>
            <a:ext cx="247680" cy="2476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039000" y="4191120"/>
            <a:ext cx="247680" cy="2476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781680" y="4191120"/>
            <a:ext cx="247680" cy="2476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505640" y="3467160"/>
            <a:ext cx="476280" cy="3240"/>
          </a:xfrm>
          <a:prstGeom prst="line">
            <a:avLst/>
          </a:prstGeom>
          <a:ln w="7632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639200" y="3333600"/>
            <a:ext cx="247680" cy="2476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5" name=""/>
          <p:cNvCxnSpPr>
            <a:stCxn id="296" idx="2"/>
            <a:endCxn id="300" idx="7"/>
          </p:cNvCxnSpPr>
          <p:nvPr/>
        </p:nvCxnSpPr>
        <p:spPr>
          <a:xfrm rot="5400000">
            <a:off x="5038920" y="3537360"/>
            <a:ext cx="1119960" cy="261360"/>
          </a:xfrm>
          <a:prstGeom prst="bentConnector3">
            <a:avLst>
              <a:gd name="adj1" fmla="val 4836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6" name=""/>
          <p:cNvCxnSpPr>
            <a:stCxn id="296" idx="2"/>
            <a:endCxn id="301" idx="0"/>
          </p:cNvCxnSpPr>
          <p:nvPr/>
        </p:nvCxnSpPr>
        <p:spPr>
          <a:xfrm flipH="1" rot="16200000">
            <a:off x="5404680" y="3432600"/>
            <a:ext cx="1083240" cy="434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7" name=""/>
          <p:cNvCxnSpPr>
            <a:stCxn id="296" idx="2"/>
            <a:endCxn id="302" idx="0"/>
          </p:cNvCxnSpPr>
          <p:nvPr/>
        </p:nvCxnSpPr>
        <p:spPr>
          <a:xfrm flipH="1" rot="16200000">
            <a:off x="5775120" y="3061440"/>
            <a:ext cx="1083240" cy="11768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8" name=""/>
          <p:cNvCxnSpPr>
            <a:stCxn id="296" idx="2"/>
            <a:endCxn id="309" idx="0"/>
          </p:cNvCxnSpPr>
          <p:nvPr/>
        </p:nvCxnSpPr>
        <p:spPr>
          <a:xfrm flipH="1" rot="16200000">
            <a:off x="6184800" y="2651760"/>
            <a:ext cx="1083240" cy="1996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0" name=""/>
          <p:cNvCxnSpPr>
            <a:stCxn id="298" idx="2"/>
            <a:endCxn id="304" idx="0"/>
          </p:cNvCxnSpPr>
          <p:nvPr/>
        </p:nvCxnSpPr>
        <p:spPr>
          <a:xfrm flipH="1" rot="16200000">
            <a:off x="7203240" y="2774520"/>
            <a:ext cx="682920" cy="4359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9" name=""/>
          <p:cNvSpPr/>
          <p:nvPr/>
        </p:nvSpPr>
        <p:spPr>
          <a:xfrm>
            <a:off x="7601040" y="4191120"/>
            <a:ext cx="247680" cy="2476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162400" y="2647800"/>
            <a:ext cx="1714680" cy="12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896000" y="5734080"/>
            <a:ext cx="3619440" cy="0"/>
          </a:xfrm>
          <a:prstGeom prst="line">
            <a:avLst/>
          </a:prstGeom>
          <a:ln w="7632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219640" y="5600880"/>
            <a:ext cx="247680" cy="24732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000840" y="5600880"/>
            <a:ext cx="247680" cy="24732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781680" y="5600880"/>
            <a:ext cx="247680" cy="24732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77000" y="5600880"/>
            <a:ext cx="247680" cy="24732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677000" y="5124600"/>
            <a:ext cx="247680" cy="2476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943440" y="1981080"/>
            <a:ext cx="304560" cy="30492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76400" y="3467160"/>
            <a:ext cx="476280" cy="3240"/>
          </a:xfrm>
          <a:prstGeom prst="line">
            <a:avLst/>
          </a:prstGeom>
          <a:ln w="7632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828960" y="3467160"/>
            <a:ext cx="476280" cy="324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809880" y="4762440"/>
            <a:ext cx="476280" cy="3240"/>
          </a:xfrm>
          <a:prstGeom prst="line">
            <a:avLst/>
          </a:prstGeom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E313-84B4-44D9-81E1-E6958DE3A5B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D2E0E1-9904-4B89-AD4F-46E2B36E034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rst se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and overview of Swarm pro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ributions of Swa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l  structure of simulations in Swa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ick and dirty introduction to Objective-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cumentation, resources, user commun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A943-9367-4AD1-A238-EFEB47E2C2A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23931B-10A7-4ED6-A75F-FA55DF312A2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rging schedules in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chedules of each sub Swarm are merged into the schedule of next level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ally all schedules are merged in the top level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s you to treat the model as a nested hierarchy of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767120" y="2433600"/>
            <a:ext cx="3660840" cy="170352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073480" y="2992320"/>
            <a:ext cx="650880" cy="650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353200" y="3106800"/>
            <a:ext cx="307800" cy="24588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992920" y="3035160"/>
            <a:ext cx="20772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531920" y="3938760"/>
            <a:ext cx="930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326280" y="3701880"/>
            <a:ext cx="1255680" cy="500400"/>
          </a:xfrm>
          <a:custGeom>
            <a:avLst/>
            <a:gdLst/>
            <a:ahLst/>
            <a:rect l="l" t="t" r="r" b="b"/>
            <a:pathLst>
              <a:path w="269" h="515">
                <a:moveTo>
                  <a:pt x="0" y="0"/>
                </a:moveTo>
                <a:lnTo>
                  <a:pt x="86" y="75"/>
                </a:lnTo>
                <a:lnTo>
                  <a:pt x="129" y="118"/>
                </a:lnTo>
                <a:lnTo>
                  <a:pt x="139" y="161"/>
                </a:lnTo>
                <a:lnTo>
                  <a:pt x="129" y="247"/>
                </a:lnTo>
                <a:lnTo>
                  <a:pt x="96" y="343"/>
                </a:lnTo>
                <a:lnTo>
                  <a:pt x="75" y="407"/>
                </a:lnTo>
                <a:lnTo>
                  <a:pt x="75" y="450"/>
                </a:lnTo>
                <a:lnTo>
                  <a:pt x="86" y="482"/>
                </a:lnTo>
                <a:lnTo>
                  <a:pt x="171" y="504"/>
                </a:lnTo>
                <a:lnTo>
                  <a:pt x="204" y="514"/>
                </a:lnTo>
                <a:lnTo>
                  <a:pt x="246" y="514"/>
                </a:lnTo>
                <a:lnTo>
                  <a:pt x="268" y="51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646520" y="2000160"/>
            <a:ext cx="1303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453280" y="2577960"/>
            <a:ext cx="2387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p level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2" name=""/>
          <p:cNvCxnSpPr>
            <a:stCxn id="330" idx="2"/>
            <a:endCxn id="325" idx="2"/>
          </p:cNvCxnSpPr>
          <p:nvPr/>
        </p:nvCxnSpPr>
        <p:spPr>
          <a:xfrm rot="5400000">
            <a:off x="4755240" y="2774520"/>
            <a:ext cx="861120" cy="226440"/>
          </a:xfrm>
          <a:prstGeom prst="curvedConnector5">
            <a:avLst>
              <a:gd name="adj1" fmla="val 30991"/>
              <a:gd name="adj2" fmla="val 100636"/>
              <a:gd name="adj3" fmla="val 30991"/>
            </a:avLst>
          </a:prstGeom>
          <a:ln w="19080">
            <a:solidFill>
              <a:srgbClr val="000000"/>
            </a:solidFill>
            <a:miter/>
          </a:ln>
        </p:spPr>
      </p:cxnSp>
      <p:sp>
        <p:nvSpPr>
          <p:cNvPr id="333" name=""/>
          <p:cNvSpPr/>
          <p:nvPr/>
        </p:nvSpPr>
        <p:spPr>
          <a:xfrm>
            <a:off x="6464160" y="2959200"/>
            <a:ext cx="208080" cy="20772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021360" y="3417840"/>
            <a:ext cx="20808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562800" y="3413160"/>
            <a:ext cx="20772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943680" y="3071880"/>
            <a:ext cx="208080" cy="19044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307280" y="3279600"/>
            <a:ext cx="208080" cy="19080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759200" y="4341960"/>
            <a:ext cx="3660840" cy="170316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9" name=""/>
          <p:cNvCxnSpPr/>
          <p:nvPr/>
        </p:nvCxnSpPr>
        <p:spPr>
          <a:xfrm flipH="1" rot="10800000">
            <a:off x="5360040" y="3513960"/>
            <a:ext cx="51480" cy="1707480"/>
          </a:xfrm>
          <a:prstGeom prst="bentConnector4">
            <a:avLst>
              <a:gd name="adj1" fmla="val -450000"/>
              <a:gd name="adj2" fmla="val 59531"/>
            </a:avLst>
          </a:prstGeom>
          <a:ln w="9360">
            <a:solidFill>
              <a:srgbClr val="b2b2b2"/>
            </a:solidFill>
            <a:miter/>
          </a:ln>
        </p:spPr>
      </p:cxnSp>
      <p:sp>
        <p:nvSpPr>
          <p:cNvPr id="340" name=""/>
          <p:cNvSpPr/>
          <p:nvPr/>
        </p:nvSpPr>
        <p:spPr>
          <a:xfrm>
            <a:off x="5262480" y="4883040"/>
            <a:ext cx="650880" cy="650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513400" y="4995720"/>
            <a:ext cx="307800" cy="271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950080" y="4608360"/>
            <a:ext cx="20772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352560" y="4521240"/>
            <a:ext cx="1699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b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562800" y="4975200"/>
            <a:ext cx="20772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154560" y="5168880"/>
            <a:ext cx="20808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645240" y="5410080"/>
            <a:ext cx="20808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024680" y="5176800"/>
            <a:ext cx="208080" cy="19044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388280" y="5046840"/>
            <a:ext cx="208080" cy="19044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81A3-51C2-4009-BE76-5E31276AC665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F9D2BB-169C-4F11-B3E9-C15F3D897E2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aging memory in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llocation and deallocation of memory is a necessary feature in an OO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warm provides libraries for this purpose which make the process transparent to us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ic feature: Objects are created and destroyed using a notion of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mory z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dropping a memory zone can drop entire collections or sub Swa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A318-330A-4B4C-9E9B-0C532991A1A6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2F086F-3D29-4E4C-A300-C550DCB6E66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87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recursive structure of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792520" y="1922400"/>
            <a:ext cx="3660840" cy="17035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116160" y="2568600"/>
            <a:ext cx="650880" cy="650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432240" y="2562120"/>
            <a:ext cx="307800" cy="34128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017960" y="2347920"/>
            <a:ext cx="208080" cy="2080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595760" y="2654280"/>
            <a:ext cx="208080" cy="2080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019840" y="2417760"/>
            <a:ext cx="207720" cy="2080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321080" y="3065400"/>
            <a:ext cx="208080" cy="2080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186520" y="2897280"/>
            <a:ext cx="207720" cy="20772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822320" y="4013280"/>
            <a:ext cx="2502000" cy="11271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044800" y="442116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102120" y="4818240"/>
            <a:ext cx="139680" cy="1346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075120" y="4071960"/>
            <a:ext cx="13788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346560" y="4317840"/>
            <a:ext cx="13968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071880" y="4357800"/>
            <a:ext cx="137880" cy="13320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460680" y="4645080"/>
            <a:ext cx="13824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205240" y="4573440"/>
            <a:ext cx="2502000" cy="11620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427720" y="501660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043680" y="4863960"/>
            <a:ext cx="139680" cy="1396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303960" y="470052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7104240" y="4896000"/>
            <a:ext cx="13968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251400" y="535608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792840" y="5070600"/>
            <a:ext cx="13824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2157480" y="3157560"/>
            <a:ext cx="2176560" cy="1003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317840" y="3157560"/>
            <a:ext cx="16200" cy="1428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3535200" y="4551120"/>
            <a:ext cx="2891160" cy="153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586320" y="4721400"/>
            <a:ext cx="2006280" cy="850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170760" y="2392200"/>
            <a:ext cx="936360" cy="290520"/>
          </a:xfrm>
          <a:custGeom>
            <a:avLst/>
            <a:gdLst/>
            <a:ahLst/>
            <a:rect l="l" t="t" r="r" b="b"/>
            <a:pathLst>
              <a:path w="590" h="183">
                <a:moveTo>
                  <a:pt x="0" y="150"/>
                </a:moveTo>
                <a:lnTo>
                  <a:pt x="43" y="86"/>
                </a:lnTo>
                <a:lnTo>
                  <a:pt x="107" y="32"/>
                </a:lnTo>
                <a:lnTo>
                  <a:pt x="172" y="0"/>
                </a:lnTo>
                <a:lnTo>
                  <a:pt x="204" y="0"/>
                </a:lnTo>
                <a:lnTo>
                  <a:pt x="289" y="43"/>
                </a:lnTo>
                <a:lnTo>
                  <a:pt x="354" y="96"/>
                </a:lnTo>
                <a:lnTo>
                  <a:pt x="397" y="150"/>
                </a:lnTo>
                <a:lnTo>
                  <a:pt x="418" y="182"/>
                </a:lnTo>
                <a:lnTo>
                  <a:pt x="472" y="139"/>
                </a:lnTo>
                <a:lnTo>
                  <a:pt x="514" y="96"/>
                </a:lnTo>
                <a:lnTo>
                  <a:pt x="547" y="64"/>
                </a:lnTo>
                <a:lnTo>
                  <a:pt x="589" y="4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098840" y="2224080"/>
            <a:ext cx="1049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718880" y="3909960"/>
            <a:ext cx="1625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-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337000" y="3038400"/>
            <a:ext cx="614520" cy="733680"/>
          </a:xfrm>
          <a:custGeom>
            <a:avLst/>
            <a:gdLst/>
            <a:ahLst/>
            <a:rect l="l" t="t" r="r" b="b"/>
            <a:pathLst>
              <a:path w="387" h="462">
                <a:moveTo>
                  <a:pt x="0" y="0"/>
                </a:moveTo>
                <a:lnTo>
                  <a:pt x="54" y="0"/>
                </a:lnTo>
                <a:lnTo>
                  <a:pt x="97" y="21"/>
                </a:lnTo>
                <a:lnTo>
                  <a:pt x="129" y="53"/>
                </a:lnTo>
                <a:lnTo>
                  <a:pt x="161" y="118"/>
                </a:lnTo>
                <a:lnTo>
                  <a:pt x="161" y="236"/>
                </a:lnTo>
                <a:lnTo>
                  <a:pt x="150" y="353"/>
                </a:lnTo>
                <a:lnTo>
                  <a:pt x="140" y="418"/>
                </a:lnTo>
                <a:lnTo>
                  <a:pt x="161" y="450"/>
                </a:lnTo>
                <a:lnTo>
                  <a:pt x="215" y="461"/>
                </a:lnTo>
                <a:lnTo>
                  <a:pt x="279" y="461"/>
                </a:lnTo>
                <a:lnTo>
                  <a:pt x="322" y="461"/>
                </a:lnTo>
                <a:lnTo>
                  <a:pt x="354" y="461"/>
                </a:lnTo>
                <a:lnTo>
                  <a:pt x="386" y="43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925240" y="3516480"/>
            <a:ext cx="930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351320" y="3191040"/>
            <a:ext cx="426960" cy="817560"/>
          </a:xfrm>
          <a:custGeom>
            <a:avLst/>
            <a:gdLst/>
            <a:ahLst/>
            <a:rect l="l" t="t" r="r" b="b"/>
            <a:pathLst>
              <a:path w="269" h="515">
                <a:moveTo>
                  <a:pt x="0" y="0"/>
                </a:moveTo>
                <a:lnTo>
                  <a:pt x="86" y="75"/>
                </a:lnTo>
                <a:lnTo>
                  <a:pt x="129" y="118"/>
                </a:lnTo>
                <a:lnTo>
                  <a:pt x="139" y="161"/>
                </a:lnTo>
                <a:lnTo>
                  <a:pt x="129" y="247"/>
                </a:lnTo>
                <a:lnTo>
                  <a:pt x="96" y="343"/>
                </a:lnTo>
                <a:lnTo>
                  <a:pt x="75" y="407"/>
                </a:lnTo>
                <a:lnTo>
                  <a:pt x="75" y="450"/>
                </a:lnTo>
                <a:lnTo>
                  <a:pt x="86" y="482"/>
                </a:lnTo>
                <a:lnTo>
                  <a:pt x="171" y="504"/>
                </a:lnTo>
                <a:lnTo>
                  <a:pt x="204" y="514"/>
                </a:lnTo>
                <a:lnTo>
                  <a:pt x="246" y="514"/>
                </a:lnTo>
                <a:lnTo>
                  <a:pt x="268" y="51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513160" y="1523880"/>
            <a:ext cx="1303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819520" y="1905120"/>
            <a:ext cx="393480" cy="879480"/>
          </a:xfrm>
          <a:custGeom>
            <a:avLst/>
            <a:gdLst/>
            <a:ahLst/>
            <a:rect l="l" t="t" r="r" b="b"/>
            <a:pathLst>
              <a:path w="419" h="408">
                <a:moveTo>
                  <a:pt x="418" y="407"/>
                </a:moveTo>
                <a:lnTo>
                  <a:pt x="407" y="343"/>
                </a:lnTo>
                <a:lnTo>
                  <a:pt x="397" y="311"/>
                </a:lnTo>
                <a:lnTo>
                  <a:pt x="386" y="289"/>
                </a:lnTo>
                <a:lnTo>
                  <a:pt x="365" y="257"/>
                </a:lnTo>
                <a:lnTo>
                  <a:pt x="322" y="225"/>
                </a:lnTo>
                <a:lnTo>
                  <a:pt x="279" y="214"/>
                </a:lnTo>
                <a:lnTo>
                  <a:pt x="236" y="204"/>
                </a:lnTo>
                <a:lnTo>
                  <a:pt x="193" y="204"/>
                </a:lnTo>
                <a:lnTo>
                  <a:pt x="150" y="204"/>
                </a:lnTo>
                <a:lnTo>
                  <a:pt x="108" y="204"/>
                </a:lnTo>
                <a:lnTo>
                  <a:pt x="86" y="204"/>
                </a:lnTo>
                <a:lnTo>
                  <a:pt x="54" y="182"/>
                </a:lnTo>
                <a:lnTo>
                  <a:pt x="22" y="140"/>
                </a:lnTo>
                <a:lnTo>
                  <a:pt x="11" y="118"/>
                </a:lnTo>
                <a:lnTo>
                  <a:pt x="11" y="86"/>
                </a:lnTo>
                <a:lnTo>
                  <a:pt x="11" y="43"/>
                </a:lnTo>
                <a:lnTo>
                  <a:pt x="11" y="11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057400" y="4419720"/>
            <a:ext cx="324000" cy="222120"/>
          </a:xfrm>
          <a:custGeom>
            <a:avLst/>
            <a:gdLst/>
            <a:ahLst/>
            <a:rect l="l" t="t" r="r" b="b"/>
            <a:pathLst>
              <a:path w="204" h="140">
                <a:moveTo>
                  <a:pt x="0" y="86"/>
                </a:moveTo>
                <a:lnTo>
                  <a:pt x="150" y="139"/>
                </a:lnTo>
                <a:lnTo>
                  <a:pt x="20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423040" y="5181480"/>
            <a:ext cx="291960" cy="255600"/>
          </a:xfrm>
          <a:custGeom>
            <a:avLst/>
            <a:gdLst/>
            <a:ahLst/>
            <a:rect l="l" t="t" r="r" b="b"/>
            <a:pathLst>
              <a:path w="151" h="130">
                <a:moveTo>
                  <a:pt x="0" y="0"/>
                </a:moveTo>
                <a:lnTo>
                  <a:pt x="150" y="11"/>
                </a:lnTo>
                <a:lnTo>
                  <a:pt x="75" y="12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003320" y="2617920"/>
            <a:ext cx="1401840" cy="7189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174680" y="2838600"/>
            <a:ext cx="243000" cy="279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168560" y="2849400"/>
            <a:ext cx="182520" cy="142920"/>
          </a:xfrm>
          <a:custGeom>
            <a:avLst/>
            <a:gdLst/>
            <a:ahLst/>
            <a:rect l="l" t="t" r="r" b="b"/>
            <a:pathLst>
              <a:path w="115" h="90">
                <a:moveTo>
                  <a:pt x="0" y="55"/>
                </a:moveTo>
                <a:lnTo>
                  <a:pt x="84" y="89"/>
                </a:lnTo>
                <a:lnTo>
                  <a:pt x="114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550880" y="2873520"/>
            <a:ext cx="208080" cy="34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873080" y="2770200"/>
            <a:ext cx="208080" cy="34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060560" y="3382920"/>
            <a:ext cx="1955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Inte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669640" y="1646280"/>
            <a:ext cx="1599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517920" y="4295880"/>
            <a:ext cx="1344600" cy="376200"/>
          </a:xfrm>
          <a:custGeom>
            <a:avLst/>
            <a:gdLst/>
            <a:ahLst/>
            <a:rect l="l" t="t" r="r" b="b"/>
            <a:pathLst>
              <a:path w="847" h="237">
                <a:moveTo>
                  <a:pt x="0" y="236"/>
                </a:moveTo>
                <a:lnTo>
                  <a:pt x="11" y="182"/>
                </a:lnTo>
                <a:lnTo>
                  <a:pt x="43" y="129"/>
                </a:lnTo>
                <a:lnTo>
                  <a:pt x="86" y="97"/>
                </a:lnTo>
                <a:lnTo>
                  <a:pt x="128" y="86"/>
                </a:lnTo>
                <a:lnTo>
                  <a:pt x="150" y="97"/>
                </a:lnTo>
                <a:lnTo>
                  <a:pt x="182" y="118"/>
                </a:lnTo>
                <a:lnTo>
                  <a:pt x="214" y="129"/>
                </a:lnTo>
                <a:lnTo>
                  <a:pt x="246" y="161"/>
                </a:lnTo>
                <a:lnTo>
                  <a:pt x="268" y="172"/>
                </a:lnTo>
                <a:lnTo>
                  <a:pt x="300" y="172"/>
                </a:lnTo>
                <a:lnTo>
                  <a:pt x="353" y="182"/>
                </a:lnTo>
                <a:lnTo>
                  <a:pt x="396" y="193"/>
                </a:lnTo>
                <a:lnTo>
                  <a:pt x="450" y="193"/>
                </a:lnTo>
                <a:lnTo>
                  <a:pt x="514" y="182"/>
                </a:lnTo>
                <a:lnTo>
                  <a:pt x="557" y="182"/>
                </a:lnTo>
                <a:lnTo>
                  <a:pt x="600" y="172"/>
                </a:lnTo>
                <a:lnTo>
                  <a:pt x="632" y="161"/>
                </a:lnTo>
                <a:lnTo>
                  <a:pt x="675" y="139"/>
                </a:lnTo>
                <a:lnTo>
                  <a:pt x="707" y="118"/>
                </a:lnTo>
                <a:lnTo>
                  <a:pt x="750" y="97"/>
                </a:lnTo>
                <a:lnTo>
                  <a:pt x="782" y="65"/>
                </a:lnTo>
                <a:lnTo>
                  <a:pt x="825" y="32"/>
                </a:lnTo>
                <a:lnTo>
                  <a:pt x="846" y="0"/>
                </a:lnTo>
                <a:lnTo>
                  <a:pt x="814" y="2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837720" y="1981080"/>
            <a:ext cx="1015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7" name=""/>
          <p:cNvCxnSpPr>
            <a:stCxn id="396" idx="2"/>
            <a:endCxn id="391" idx="0"/>
          </p:cNvCxnSpPr>
          <p:nvPr/>
        </p:nvCxnSpPr>
        <p:spPr>
          <a:xfrm flipH="1" rot="16200000">
            <a:off x="1283040" y="2500560"/>
            <a:ext cx="435960" cy="310320"/>
          </a:xfrm>
          <a:prstGeom prst="curvedConnector5">
            <a:avLst>
              <a:gd name="adj1" fmla="val 50000"/>
              <a:gd name="adj2" fmla="val 49941"/>
              <a:gd name="adj3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98" name=""/>
          <p:cNvCxnSpPr/>
          <p:nvPr/>
        </p:nvCxnSpPr>
        <p:spPr>
          <a:xfrm flipH="1" rot="16200000">
            <a:off x="1613880" y="2424600"/>
            <a:ext cx="435600" cy="310320"/>
          </a:xfrm>
          <a:prstGeom prst="curvedConnector5">
            <a:avLst>
              <a:gd name="adj1" fmla="val 49958"/>
              <a:gd name="adj2" fmla="val 49941"/>
              <a:gd name="adj3" fmla="val 49958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99" name=""/>
          <p:cNvSpPr/>
          <p:nvPr/>
        </p:nvSpPr>
        <p:spPr>
          <a:xfrm>
            <a:off x="6552360" y="4168800"/>
            <a:ext cx="2151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-sub-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1A92-D41B-4AA7-9E7A-962B7405829A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4C2EBF-BF87-49CE-A7E9-96F36429779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6858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agents and objects in Swarm can be prob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e attaches itself to an agent, can send a message, change a variable or retrieve values by calling agent or reading variable direc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rob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876920" y="3657600"/>
            <a:ext cx="1523880" cy="2133720"/>
          </a:xfrm>
          <a:prstGeom prst="can">
            <a:avLst>
              <a:gd name="adj" fmla="val 25000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rot="2067600">
            <a:off x="5790960" y="2742840"/>
            <a:ext cx="304560" cy="1295280"/>
          </a:xfrm>
          <a:prstGeom prst="cube">
            <a:avLst>
              <a:gd name="adj" fmla="val 25000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rot="2290200">
            <a:off x="5562360" y="2514600"/>
            <a:ext cx="1600200" cy="533520"/>
          </a:xfrm>
          <a:prstGeom prst="can">
            <a:avLst>
              <a:gd name="adj" fmla="val 25000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flipH="1" rot="17278800">
            <a:off x="7010280" y="1447920"/>
            <a:ext cx="914400" cy="1828800"/>
          </a:xfrm>
          <a:custGeom>
            <a:avLst/>
            <a:gdLst>
              <a:gd name="textAreaLeft" fmla="*/ 122400 w 914400"/>
              <a:gd name="textAreaRight" fmla="*/ 792000 w 914400"/>
              <a:gd name="textAreaTop" fmla="*/ 320040 h 1828800"/>
              <a:gd name="textAreaBottom" fmla="*/ 13258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7162920" y="3124080"/>
            <a:ext cx="1371600" cy="99072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ar=10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5257800" y="4648320"/>
            <a:ext cx="676440" cy="35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Agent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EF6A-A38C-4403-9138-F7631D943A0A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2DC38E-143C-459D-8029-2F4AD310BC5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es and the GU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robe can be used to communicate with objects in real time through a graphical wi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default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be ma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agent shows all variables and functions - can also customize displ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V="1">
            <a:off x="6338880" y="4484160"/>
            <a:ext cx="976320" cy="481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478400" y="5121360"/>
            <a:ext cx="779400" cy="1092240"/>
          </a:xfrm>
          <a:prstGeom prst="can">
            <a:avLst>
              <a:gd name="adj" fmla="val 25000"/>
            </a:avLst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rot="2067600">
            <a:off x="4963680" y="4689000"/>
            <a:ext cx="155520" cy="662040"/>
          </a:xfrm>
          <a:prstGeom prst="cube">
            <a:avLst>
              <a:gd name="adj" fmla="val 25000"/>
            </a:avLst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rot="2290200">
            <a:off x="4846320" y="4571640"/>
            <a:ext cx="819000" cy="272880"/>
          </a:xfrm>
          <a:prstGeom prst="can">
            <a:avLst>
              <a:gd name="adj" fmla="val 25000"/>
            </a:avLst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4595760" y="5568840"/>
            <a:ext cx="504720" cy="2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Agent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15" name=""/>
          <p:cNvSpPr/>
          <p:nvPr/>
        </p:nvSpPr>
        <p:spPr>
          <a:xfrm rot="2067600">
            <a:off x="5495400" y="3759120"/>
            <a:ext cx="152640" cy="966960"/>
          </a:xfrm>
          <a:prstGeom prst="cube">
            <a:avLst>
              <a:gd name="adj" fmla="val 25000"/>
            </a:avLst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5791320" y="2438280"/>
            <a:ext cx="2260440" cy="270828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/>
          <p:nvPr/>
        </p:nvSpPr>
        <p:spPr>
          <a:xfrm>
            <a:off x="5636520" y="5562720"/>
            <a:ext cx="192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s 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5867280" y="4952520"/>
            <a:ext cx="3049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216840" y="5234040"/>
            <a:ext cx="258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put value for vari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7086600" y="4495320"/>
            <a:ext cx="45720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412880" y="1981080"/>
            <a:ext cx="23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n probe for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410080" y="236232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780600" y="1981080"/>
            <a:ext cx="140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ose 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7315200" y="236232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8149-12A4-4628-A7F8-2FE2E8E776C5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732F98-7250-442C-A3CC-F325B022BCB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es without a GU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es are also used to gather information dynamically from single agents or collection of 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mong other features is the ability to define and execute method calls on the fly at run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rot="1005600">
            <a:off x="5103360" y="2511000"/>
            <a:ext cx="1420920" cy="76824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124400">
            <a:off x="5622840" y="3301920"/>
            <a:ext cx="157320" cy="1305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rot="897600">
            <a:off x="4150800" y="4527360"/>
            <a:ext cx="4135680" cy="76824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629240" y="4400640"/>
            <a:ext cx="571320" cy="5713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334120" y="4476600"/>
            <a:ext cx="571320" cy="5716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019920" y="4514760"/>
            <a:ext cx="571320" cy="5716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705720" y="4591080"/>
            <a:ext cx="571320" cy="5713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372440" y="4648320"/>
            <a:ext cx="571320" cy="5713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 rot="6522000">
            <a:off x="6922440" y="2674800"/>
            <a:ext cx="206640" cy="981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7372440" y="2495520"/>
            <a:ext cx="1066680" cy="112392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386240" y="535608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124600" y="5718240"/>
            <a:ext cx="25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ollectio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032440" y="1984320"/>
            <a:ext cx="354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 that analyze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147080" y="3660840"/>
            <a:ext cx="163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 th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s on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7" idx="1"/>
            <a:endCxn id="430" idx="3"/>
          </p:cNvCxnSpPr>
          <p:nvPr/>
        </p:nvCxnSpPr>
        <p:spPr>
          <a:xfrm flipH="1" rot="10800000">
            <a:off x="4384440" y="4887360"/>
            <a:ext cx="329040" cy="697320"/>
          </a:xfrm>
          <a:prstGeom prst="curvedConnector5">
            <a:avLst>
              <a:gd name="adj1" fmla="val -69550"/>
              <a:gd name="adj2" fmla="val 30165"/>
              <a:gd name="adj3" fmla="val -6955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42" name=""/>
          <p:cNvCxnSpPr>
            <a:stCxn id="438" idx="3"/>
            <a:endCxn id="429" idx="3"/>
          </p:cNvCxnSpPr>
          <p:nvPr/>
        </p:nvCxnSpPr>
        <p:spPr>
          <a:xfrm flipV="1">
            <a:off x="7626240" y="5444640"/>
            <a:ext cx="589680" cy="502560"/>
          </a:xfrm>
          <a:prstGeom prst="curvedConnector5">
            <a:avLst>
              <a:gd name="adj1" fmla="val 155772"/>
              <a:gd name="adj2" fmla="val 49964"/>
              <a:gd name="adj3" fmla="val 15577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43" name=""/>
          <p:cNvCxnSpPr>
            <a:stCxn id="439" idx="1"/>
            <a:endCxn id="427" idx="1"/>
          </p:cNvCxnSpPr>
          <p:nvPr/>
        </p:nvCxnSpPr>
        <p:spPr>
          <a:xfrm flipH="1" flipV="1" rot="10800000">
            <a:off x="5032080" y="2211840"/>
            <a:ext cx="102240" cy="477000"/>
          </a:xfrm>
          <a:prstGeom prst="curvedConnector5">
            <a:avLst>
              <a:gd name="adj1" fmla="val -234275"/>
              <a:gd name="adj2" fmla="val 50000"/>
              <a:gd name="adj3" fmla="val -234275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44" name=""/>
          <p:cNvSpPr/>
          <p:nvPr/>
        </p:nvSpPr>
        <p:spPr>
          <a:xfrm>
            <a:off x="4309920" y="356544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5" name=""/>
          <p:cNvCxnSpPr>
            <a:stCxn id="444" idx="2"/>
            <a:endCxn id="428" idx="1"/>
          </p:cNvCxnSpPr>
          <p:nvPr/>
        </p:nvCxnSpPr>
        <p:spPr>
          <a:xfrm flipH="1" flipV="1" rot="5400000">
            <a:off x="5143320" y="3539880"/>
            <a:ext cx="95760" cy="870480"/>
          </a:xfrm>
          <a:prstGeom prst="curvedConnector5">
            <a:avLst>
              <a:gd name="adj1" fmla="val -240000"/>
              <a:gd name="adj2" fmla="val 31816"/>
              <a:gd name="adj3" fmla="val -24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C707-36B4-475E-8249-CD178C5D5F59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4D290E-1AE3-4D3B-823F-C593D268E86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Graphical User Interf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s provided to create and mana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ne grap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stogra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ster im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grap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collection, calculation and updating is provided through support objects to the GUI widg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8" name="ezgraph" descr=""/>
          <p:cNvPicPr/>
          <p:nvPr/>
        </p:nvPicPr>
        <p:blipFill>
          <a:blip r:embed="rId1"/>
          <a:stretch/>
        </p:blipFill>
        <p:spPr>
          <a:xfrm>
            <a:off x="4626000" y="1933560"/>
            <a:ext cx="2590920" cy="1739880"/>
          </a:xfrm>
          <a:prstGeom prst="rect">
            <a:avLst/>
          </a:prstGeom>
          <a:ln w="0">
            <a:noFill/>
          </a:ln>
        </p:spPr>
      </p:pic>
      <p:pic>
        <p:nvPicPr>
          <p:cNvPr id="449" name="ezbin" descr=""/>
          <p:cNvPicPr/>
          <p:nvPr/>
        </p:nvPicPr>
        <p:blipFill>
          <a:blip r:embed="rId2"/>
          <a:stretch/>
        </p:blipFill>
        <p:spPr>
          <a:xfrm>
            <a:off x="5600880" y="3081240"/>
            <a:ext cx="2628720" cy="1784520"/>
          </a:xfrm>
          <a:prstGeom prst="rect">
            <a:avLst/>
          </a:prstGeom>
          <a:ln w="0">
            <a:noFill/>
          </a:ln>
        </p:spPr>
      </p:pic>
      <p:sp>
        <p:nvSpPr>
          <p:cNvPr id="450" name=""/>
          <p:cNvSpPr/>
          <p:nvPr/>
        </p:nvSpPr>
        <p:spPr>
          <a:xfrm>
            <a:off x="4508640" y="4102200"/>
            <a:ext cx="2025360" cy="204300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1" name="" descr=""/>
          <p:cNvPicPr/>
          <p:nvPr/>
        </p:nvPicPr>
        <p:blipFill>
          <a:blip r:embed="rId3"/>
          <a:stretch/>
        </p:blipFill>
        <p:spPr>
          <a:xfrm>
            <a:off x="4583160" y="4184640"/>
            <a:ext cx="1876320" cy="1876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A3E0-6843-4AF4-BA9B-0669DE45A19B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AE36BE-F90F-42E5-BAE7-9FB796A9CFC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/>
          <p:nvPr/>
        </p:nvSpPr>
        <p:spPr>
          <a:xfrm rot="1124400">
            <a:off x="5663880" y="3228480"/>
            <a:ext cx="95040" cy="78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rot="1124400">
            <a:off x="6883200" y="3285720"/>
            <a:ext cx="95040" cy="78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469200" y="3790800"/>
            <a:ext cx="641160" cy="67644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rot="1124400">
            <a:off x="6578280" y="4390560"/>
            <a:ext cx="95040" cy="78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rot="1005600">
            <a:off x="5028840" y="3762000"/>
            <a:ext cx="853920" cy="46188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eeding data to the GUI widg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rot="1124400">
            <a:off x="5340240" y="4238280"/>
            <a:ext cx="95400" cy="7840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rot="897600">
            <a:off x="4456080" y="4974840"/>
            <a:ext cx="2486160" cy="4618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743360" y="4898880"/>
            <a:ext cx="343080" cy="3430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167440" y="4944960"/>
            <a:ext cx="342720" cy="3430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580000" y="4967280"/>
            <a:ext cx="343080" cy="3445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991120" y="5013360"/>
            <a:ext cx="344520" cy="3427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392880" y="5048280"/>
            <a:ext cx="342720" cy="3427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5" name="ezgraph" descr=""/>
          <p:cNvPicPr/>
          <p:nvPr/>
        </p:nvPicPr>
        <p:blipFill>
          <a:blip r:embed="rId1"/>
          <a:stretch/>
        </p:blipFill>
        <p:spPr>
          <a:xfrm>
            <a:off x="5254560" y="1895400"/>
            <a:ext cx="2590920" cy="1739880"/>
          </a:xfrm>
          <a:prstGeom prst="rect">
            <a:avLst/>
          </a:prstGeom>
          <a:ln w="0">
            <a:noFill/>
          </a:ln>
        </p:spPr>
      </p:pic>
      <p:sp>
        <p:nvSpPr>
          <p:cNvPr id="466" name=""/>
          <p:cNvSpPr/>
          <p:nvPr/>
        </p:nvSpPr>
        <p:spPr>
          <a:xfrm>
            <a:off x="7357320" y="3870360"/>
            <a:ext cx="131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604320" y="3508200"/>
            <a:ext cx="131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c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005000" y="432756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262640" y="491796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833640" y="537516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64720" y="5546880"/>
            <a:ext cx="145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2" name=""/>
          <p:cNvCxnSpPr>
            <a:stCxn id="468" idx="3"/>
            <a:endCxn id="458" idx="1"/>
          </p:cNvCxnSpPr>
          <p:nvPr/>
        </p:nvCxnSpPr>
        <p:spPr>
          <a:xfrm>
            <a:off x="4898520" y="4555800"/>
            <a:ext cx="443880" cy="59400"/>
          </a:xfrm>
          <a:prstGeom prst="curvedConnector5">
            <a:avLst>
              <a:gd name="adj1" fmla="val 35795"/>
              <a:gd name="adj2" fmla="val 50000"/>
              <a:gd name="adj3" fmla="val 3579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3" name=""/>
          <p:cNvCxnSpPr>
            <a:stCxn id="469" idx="1"/>
            <a:endCxn id="455" idx="3"/>
          </p:cNvCxnSpPr>
          <p:nvPr/>
        </p:nvCxnSpPr>
        <p:spPr>
          <a:xfrm rot="10800000">
            <a:off x="6670080" y="4796640"/>
            <a:ext cx="591120" cy="349920"/>
          </a:xfrm>
          <a:prstGeom prst="curvedConnector5">
            <a:avLst>
              <a:gd name="adj1" fmla="val 39244"/>
              <a:gd name="adj2" fmla="val 49948"/>
              <a:gd name="adj3" fmla="val 39244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4" name=""/>
          <p:cNvCxnSpPr>
            <a:stCxn id="470" idx="2"/>
            <a:endCxn id="461" idx="4"/>
          </p:cNvCxnSpPr>
          <p:nvPr/>
        </p:nvCxnSpPr>
        <p:spPr>
          <a:xfrm flipH="1" flipV="1" rot="5400000">
            <a:off x="4544640" y="5038920"/>
            <a:ext cx="545040" cy="1042200"/>
          </a:xfrm>
          <a:prstGeom prst="curvedConnector5">
            <a:avLst>
              <a:gd name="adj1" fmla="val -41969"/>
              <a:gd name="adj2" fmla="val 50000"/>
              <a:gd name="adj3" fmla="val -4196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5" name=""/>
          <p:cNvCxnSpPr>
            <a:stCxn id="471" idx="2"/>
            <a:endCxn id="459" idx="3"/>
          </p:cNvCxnSpPr>
          <p:nvPr/>
        </p:nvCxnSpPr>
        <p:spPr>
          <a:xfrm flipV="1" rot="16200000">
            <a:off x="7156080" y="5268240"/>
            <a:ext cx="478800" cy="992880"/>
          </a:xfrm>
          <a:prstGeom prst="curvedConnector5">
            <a:avLst>
              <a:gd name="adj1" fmla="val -47780"/>
              <a:gd name="adj2" fmla="val 41748"/>
              <a:gd name="adj3" fmla="val -4778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6" name=""/>
          <p:cNvCxnSpPr>
            <a:stCxn id="467" idx="0"/>
            <a:endCxn id="456" idx="1"/>
          </p:cNvCxnSpPr>
          <p:nvPr/>
        </p:nvCxnSpPr>
        <p:spPr>
          <a:xfrm flipH="1" rot="16200000">
            <a:off x="4474080" y="3295080"/>
            <a:ext cx="361080" cy="785160"/>
          </a:xfrm>
          <a:prstGeom prst="curvedConnector5">
            <a:avLst>
              <a:gd name="adj1" fmla="val -63373"/>
              <a:gd name="adj2" fmla="val 43807"/>
              <a:gd name="adj3" fmla="val -6337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7" name=""/>
          <p:cNvCxnSpPr>
            <a:stCxn id="466" idx="0"/>
            <a:endCxn id="454" idx="6"/>
          </p:cNvCxnSpPr>
          <p:nvPr/>
        </p:nvCxnSpPr>
        <p:spPr>
          <a:xfrm rot="5400000">
            <a:off x="7432920" y="3546360"/>
            <a:ext cx="259560" cy="905760"/>
          </a:xfrm>
          <a:prstGeom prst="curvedConnector5">
            <a:avLst>
              <a:gd name="adj1" fmla="val -88333"/>
              <a:gd name="adj2" fmla="val 43220"/>
              <a:gd name="adj3" fmla="val -88333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78" name=""/>
          <p:cNvSpPr/>
          <p:nvPr/>
        </p:nvSpPr>
        <p:spPr>
          <a:xfrm>
            <a:off x="3681720" y="2498760"/>
            <a:ext cx="101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d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9" name=""/>
          <p:cNvCxnSpPr>
            <a:stCxn id="478" idx="0"/>
            <a:endCxn id="465" idx="1"/>
          </p:cNvCxnSpPr>
          <p:nvPr/>
        </p:nvCxnSpPr>
        <p:spPr>
          <a:xfrm flipH="1" rot="16200000">
            <a:off x="4589640" y="2098800"/>
            <a:ext cx="267120" cy="1064160"/>
          </a:xfrm>
          <a:prstGeom prst="curvedConnector5">
            <a:avLst>
              <a:gd name="adj1" fmla="val -85695"/>
              <a:gd name="adj2" fmla="val 36988"/>
              <a:gd name="adj3" fmla="val -85695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08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put on graphs or other widgets relies heavily on the probes and dynamic access to agent’s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arm collection objects also facilitate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E8AA-5BBE-4992-904B-DCC12BEC1415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0A3831-7999-4026-90E5-7BD711C3839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Objective-C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story: Created by Brad Cox, most intensively used by NeXT, now owned by Apple Computer and forms basis for Mac OS X (Rhapsod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 difference between C++ and Objective-C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sy to learn: A simple superclass of C - no new key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ially interpreted: Dynamic binding at runtime for objects and methods. Static typing optio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A555-907F-498B-B25B-4969E1A6D555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54261C-D8E4-4C17-8D5D-B9CA81CC2A9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riting objects in Objective-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66704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object is defined in terms of it’s interface and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rogram or project consists of a collection of object declarations and definitions (*.h and *.m fil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5" name="WATCHC1" descr=""/>
          <p:cNvPicPr/>
          <p:nvPr/>
        </p:nvPicPr>
        <p:blipFill>
          <a:blip r:embed="rId1"/>
          <a:stretch/>
        </p:blipFill>
        <p:spPr>
          <a:xfrm>
            <a:off x="1481040" y="1854360"/>
            <a:ext cx="1838520" cy="1409400"/>
          </a:xfrm>
          <a:prstGeom prst="rect">
            <a:avLst/>
          </a:prstGeom>
          <a:ln w="0">
            <a:noFill/>
          </a:ln>
        </p:spPr>
      </p:pic>
      <p:sp>
        <p:nvSpPr>
          <p:cNvPr id="486" name=""/>
          <p:cNvSpPr/>
          <p:nvPr/>
        </p:nvSpPr>
        <p:spPr>
          <a:xfrm>
            <a:off x="718200" y="5653080"/>
            <a:ext cx="154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face: *.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540160" y="3149640"/>
            <a:ext cx="2082600" cy="2260440"/>
          </a:xfrm>
          <a:prstGeom prst="foldedCorner">
            <a:avLst>
              <a:gd name="adj" fmla="val 12500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@implementa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82760" y="3301920"/>
            <a:ext cx="2133360" cy="2324160"/>
          </a:xfrm>
          <a:prstGeom prst="foldedCorner">
            <a:avLst>
              <a:gd name="adj" fmla="val 12500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@interfac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clara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instan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iabl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9" name=""/>
          <p:cNvCxnSpPr/>
          <p:nvPr/>
        </p:nvCxnSpPr>
        <p:spPr>
          <a:xfrm flipH="1" flipV="1" rot="10800000">
            <a:off x="1722240" y="2583360"/>
            <a:ext cx="81360" cy="1010520"/>
          </a:xfrm>
          <a:prstGeom prst="bentConnector4">
            <a:avLst>
              <a:gd name="adj1" fmla="val -282222"/>
              <a:gd name="adj2" fmla="val 84889"/>
            </a:avLst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0" name=""/>
          <p:cNvCxnSpPr/>
          <p:nvPr/>
        </p:nvCxnSpPr>
        <p:spPr>
          <a:xfrm>
            <a:off x="3002040" y="2584440"/>
            <a:ext cx="148320" cy="781920"/>
          </a:xfrm>
          <a:prstGeom prst="bentConnector2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1" name=""/>
          <p:cNvSpPr/>
          <p:nvPr/>
        </p:nvSpPr>
        <p:spPr>
          <a:xfrm>
            <a:off x="2494440" y="5386320"/>
            <a:ext cx="231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lementation: *.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0D6B-A2E2-4148-8B6E-B1116D358717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ABFB78-53F9-495F-8831-3A45E98F3FE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cus for the d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l structure of a Swarm simu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 contributions of the Swarm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t management: Swarms, Activity libr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rmation management: Prob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input and output: GUI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mory management: Creation/destr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for multiple langu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5680-4BB6-4292-B089-CF43AD7938A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77012A-655B-4EAC-9C13-BA56157B678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571680" y="4324320"/>
            <a:ext cx="4095720" cy="7621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71680" y="2666880"/>
            <a:ext cx="4133520" cy="10479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971800" y="2171880"/>
            <a:ext cx="1619280" cy="3618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133720" y="2171880"/>
            <a:ext cx="514080" cy="3618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few Objective-C bas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146640" y="2543040"/>
            <a:ext cx="541440" cy="5414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7088040" y="3319560"/>
            <a:ext cx="541440" cy="541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337000" y="3336840"/>
            <a:ext cx="541440" cy="54144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0" name=""/>
          <p:cNvCxnSpPr>
            <a:stCxn id="497" idx="4"/>
            <a:endCxn id="499" idx="0"/>
          </p:cNvCxnSpPr>
          <p:nvPr/>
        </p:nvCxnSpPr>
        <p:spPr>
          <a:xfrm rot="5400000">
            <a:off x="5886720" y="2805480"/>
            <a:ext cx="253080" cy="810360"/>
          </a:xfrm>
          <a:prstGeom prst="bentConnector3">
            <a:avLst>
              <a:gd name="adj1" fmla="val 4957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1" name=""/>
          <p:cNvCxnSpPr>
            <a:stCxn id="497" idx="4"/>
            <a:endCxn id="498" idx="0"/>
          </p:cNvCxnSpPr>
          <p:nvPr/>
        </p:nvCxnSpPr>
        <p:spPr>
          <a:xfrm flipH="1" rot="16200000">
            <a:off x="6771240" y="2730960"/>
            <a:ext cx="235800" cy="941760"/>
          </a:xfrm>
          <a:prstGeom prst="bentConnector3">
            <a:avLst>
              <a:gd name="adj1" fmla="val 55351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02" name=""/>
          <p:cNvSpPr/>
          <p:nvPr/>
        </p:nvSpPr>
        <p:spPr>
          <a:xfrm>
            <a:off x="605160" y="2208240"/>
            <a:ext cx="4295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@interface Bug : SwarmObjec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xPos, yPo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worldXSize, worldYSiz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d foodSpac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setX: (int) x Y: (int) 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ste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@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146560" y="4226040"/>
            <a:ext cx="1363680" cy="139068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238720" y="49528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5" name=""/>
          <p:cNvCxnSpPr>
            <a:endCxn id="493" idx="3"/>
          </p:cNvCxnSpPr>
          <p:nvPr/>
        </p:nvCxnSpPr>
        <p:spPr>
          <a:xfrm rot="10800000">
            <a:off x="4704480" y="3191040"/>
            <a:ext cx="515160" cy="1390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6" name=""/>
          <p:cNvCxnSpPr>
            <a:endCxn id="492" idx="3"/>
          </p:cNvCxnSpPr>
          <p:nvPr/>
        </p:nvCxnSpPr>
        <p:spPr>
          <a:xfrm rot="10800000">
            <a:off x="4666680" y="4704480"/>
            <a:ext cx="552960" cy="457920"/>
          </a:xfrm>
          <a:prstGeom prst="bentConnector3">
            <a:avLst>
              <a:gd name="adj1" fmla="val 4996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7" name=""/>
          <p:cNvCxnSpPr>
            <a:stCxn id="497" idx="0"/>
            <a:endCxn id="494" idx="0"/>
          </p:cNvCxnSpPr>
          <p:nvPr/>
        </p:nvCxnSpPr>
        <p:spPr>
          <a:xfrm flipV="1" rot="16200000">
            <a:off x="4913640" y="1038240"/>
            <a:ext cx="371880" cy="2637720"/>
          </a:xfrm>
          <a:prstGeom prst="bentConnector3">
            <a:avLst>
              <a:gd name="adj1" fmla="val 16153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8" name=""/>
          <p:cNvCxnSpPr>
            <a:stCxn id="499" idx="2"/>
            <a:endCxn id="495" idx="0"/>
          </p:cNvCxnSpPr>
          <p:nvPr/>
        </p:nvCxnSpPr>
        <p:spPr>
          <a:xfrm rot="10800000">
            <a:off x="2390040" y="2171160"/>
            <a:ext cx="2946960" cy="1437120"/>
          </a:xfrm>
          <a:prstGeom prst="bentConnector4">
            <a:avLst>
              <a:gd name="adj1" fmla="val 6841"/>
              <a:gd name="adj2" fmla="val 13179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9" name=""/>
          <p:cNvSpPr/>
          <p:nvPr/>
        </p:nvSpPr>
        <p:spPr>
          <a:xfrm>
            <a:off x="6842160" y="2365200"/>
            <a:ext cx="15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er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052400" y="4022640"/>
            <a:ext cx="157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089840" y="4651200"/>
            <a:ext cx="135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785640" y="579420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3" name=""/>
          <p:cNvCxnSpPr>
            <a:stCxn id="512" idx="1"/>
            <a:endCxn id="503" idx="4"/>
          </p:cNvCxnSpPr>
          <p:nvPr/>
        </p:nvCxnSpPr>
        <p:spPr>
          <a:xfrm rot="10800000">
            <a:off x="5828760" y="5616000"/>
            <a:ext cx="956160" cy="40680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4" name=""/>
          <p:cNvCxnSpPr>
            <a:stCxn id="511" idx="1"/>
            <a:endCxn id="503" idx="7"/>
          </p:cNvCxnSpPr>
          <p:nvPr/>
        </p:nvCxnSpPr>
        <p:spPr>
          <a:xfrm rot="10800000">
            <a:off x="6309720" y="4428360"/>
            <a:ext cx="780120" cy="634320"/>
          </a:xfrm>
          <a:prstGeom prst="curvedConnector5">
            <a:avLst>
              <a:gd name="adj1" fmla="val 37026"/>
              <a:gd name="adj2" fmla="val 84043"/>
              <a:gd name="adj3" fmla="val 37026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83F1-6E97-4088-92DC-CB4378689DDB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506FA7-B566-400F-B56C-306A537A62E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basic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27720" y="1866960"/>
            <a:ext cx="4279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lares a method called `message'. E.g. ‘step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message:(type) 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lares method called ‘message:’ that takes one argu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X:(type)x Y:(type)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lares method called ‘setX:Y:’ that takes two argu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12720" y="1981080"/>
            <a:ext cx="40482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@interface Bug:SwarmObjec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xPos, yPo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worldXSize,worldYSiz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d foodSpac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ste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setX: (int) x Y: (int) 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@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9629-2EDA-4EA2-9BC0-BFD73DD62720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5BE688-1282-45E5-8136-22D8576414B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Objective-C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ng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Message:(type) 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aMessage:(type)v1 with:(type)v2 and:(type) v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ling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obj aMessage: val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obj aMessage: val1 with: val2 and: val3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E459-5BB3-489F-9805-914858F530A7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D2E353-DC41-4F39-A65B-65B76FB8D91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 Functions vs. ObjC method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ive-C metho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(type)name: (type) v1 argName2: (type) v2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bod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va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 fun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(type)name((type) v1,(type) v2)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bod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va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324320" y="4857840"/>
            <a:ext cx="3543480" cy="1276200"/>
          </a:xfrm>
          <a:prstGeom prst="wedgeRectCallout">
            <a:avLst>
              <a:gd name="adj1" fmla="val -102643"/>
              <a:gd name="adj2" fmla="val -4402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in body cou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k exactly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e in C and Objective-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0B9A-2CAF-4D26-97D2-27F766FDE440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E5B8BB-97CD-4D71-815A-F7668BC9FBF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id variable type etc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ault variable type for object in ObjC is 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nk of this as a special variable type (which is actually a pointer to a special data structure - namely the objec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objects can refer to themselves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elf ...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objects can refer to superclass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uper ...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68BE-6D8A-40C8-99C0-3817B62D3100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714AF3-D73F-41F0-9CC1-3A8E329496A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claring a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454640" y="4781520"/>
            <a:ext cx="3938400" cy="116208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4425840" y="2662200"/>
            <a:ext cx="3938760" cy="195264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4419720" y="1981080"/>
            <a:ext cx="1523880" cy="38124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019920" y="1981080"/>
            <a:ext cx="2438280" cy="38124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85800" y="1981080"/>
            <a:ext cx="3581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header file or interface declar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’s super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41972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@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erface  Obj:SuperCl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ype Iv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ype Iv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ype Iv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(type)aMeth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anotherMethod: (type) v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8085240" y="2629080"/>
            <a:ext cx="458640" cy="47448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480"/>
              <a:gd name="textAreaBottom" fmla="*/ 366120 h 474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8085240" y="1828800"/>
            <a:ext cx="458640" cy="47484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043520" y="1857240"/>
            <a:ext cx="458640" cy="47484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8085240" y="4616280"/>
            <a:ext cx="458640" cy="47484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82560" y="28735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82560" y="335916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82560" y="3828960"/>
            <a:ext cx="374760" cy="405000"/>
          </a:xfrm>
          <a:custGeom>
            <a:avLst/>
            <a:gdLst>
              <a:gd name="textAreaLeft" fmla="*/ 85320 w 374760"/>
              <a:gd name="textAreaRight" fmla="*/ 289440 w 37476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82560" y="42451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27BB-F85F-4579-A7AC-490FCC3A0720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D2BEF0-612B-4472-83B1-61A2E7984E8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ng a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275000" y="5041800"/>
            <a:ext cx="4449960" cy="100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8292960" y="4719600"/>
            <a:ext cx="459000" cy="474840"/>
          </a:xfrm>
          <a:custGeom>
            <a:avLst/>
            <a:gdLst>
              <a:gd name="textAreaLeft" fmla="*/ 104760 w 459000"/>
              <a:gd name="textAreaRight" fmla="*/ 354240 w 45900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264200" y="3425760"/>
            <a:ext cx="4449600" cy="1351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4270320" y="2003400"/>
            <a:ext cx="4449960" cy="363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267080" y="2697120"/>
            <a:ext cx="221004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553080" y="2697120"/>
            <a:ext cx="221004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267080" y="1981080"/>
            <a:ext cx="4496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import “Obj.h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@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plementation  Ob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(type)aMethod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bod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v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anotherMethod: (type) v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bod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self;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85800" y="1981080"/>
            <a:ext cx="3527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ed on the interface the object file contains the implementation of the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 are essentially C functions, same rules about return values and arguments, local v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return type of method is not defined value must return an id 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l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8242200" y="1890720"/>
            <a:ext cx="459000" cy="474480"/>
          </a:xfrm>
          <a:custGeom>
            <a:avLst/>
            <a:gdLst>
              <a:gd name="textAreaLeft" fmla="*/ 104760 w 459000"/>
              <a:gd name="textAreaRight" fmla="*/ 354240 w 459000"/>
              <a:gd name="textAreaTop" fmla="*/ 108360 h 474480"/>
              <a:gd name="textAreaBottom" fmla="*/ 366120 h 474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623880" y="23623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4373640" y="2360520"/>
            <a:ext cx="458640" cy="47484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8232840" y="2459160"/>
            <a:ext cx="458640" cy="47448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480"/>
              <a:gd name="textAreaBottom" fmla="*/ 366120 h 474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8247240" y="3209760"/>
            <a:ext cx="458640" cy="47484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625320" y="276228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23880" y="314496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23880" y="3895560"/>
            <a:ext cx="374760" cy="405000"/>
          </a:xfrm>
          <a:custGeom>
            <a:avLst/>
            <a:gdLst>
              <a:gd name="textAreaLeft" fmla="*/ 85320 w 374760"/>
              <a:gd name="textAreaRight" fmla="*/ 289440 w 37476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43FC-D6CA-4493-9C46-020C1E3078D4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01B045-8B5F-491E-BDB9-28FCE7F047F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small ObjC proj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1521000" y="4218120"/>
            <a:ext cx="1136520" cy="170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635280" y="1981080"/>
            <a:ext cx="1136880" cy="170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5810400" y="2000160"/>
            <a:ext cx="1136520" cy="170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672000" y="4222800"/>
            <a:ext cx="1136520" cy="170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796000" y="4275000"/>
            <a:ext cx="1136520" cy="170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1627920" y="4375080"/>
            <a:ext cx="79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in.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695400" y="4410000"/>
            <a:ext cx="97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assA.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889240" y="4427640"/>
            <a:ext cx="96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assB.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758040" y="2106720"/>
            <a:ext cx="91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assA.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902560" y="2122560"/>
            <a:ext cx="90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assB.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8" name=""/>
          <p:cNvGrpSpPr/>
          <p:nvPr/>
        </p:nvGrpSpPr>
        <p:grpSpPr>
          <a:xfrm>
            <a:off x="3859200" y="4886280"/>
            <a:ext cx="685800" cy="650880"/>
            <a:chOff x="3859200" y="4886280"/>
            <a:chExt cx="685800" cy="650880"/>
          </a:xfrm>
        </p:grpSpPr>
        <p:sp>
          <p:nvSpPr>
            <p:cNvPr id="569" name=""/>
            <p:cNvSpPr/>
            <p:nvPr/>
          </p:nvSpPr>
          <p:spPr>
            <a:xfrm>
              <a:off x="3859200" y="488628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3859200" y="505296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59200" y="521964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59200" y="538812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859200" y="553716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4" name=""/>
          <p:cNvGrpSpPr/>
          <p:nvPr/>
        </p:nvGrpSpPr>
        <p:grpSpPr>
          <a:xfrm>
            <a:off x="5999040" y="4954680"/>
            <a:ext cx="685800" cy="650880"/>
            <a:chOff x="5999040" y="4954680"/>
            <a:chExt cx="685800" cy="650880"/>
          </a:xfrm>
        </p:grpSpPr>
        <p:sp>
          <p:nvSpPr>
            <p:cNvPr id="575" name=""/>
            <p:cNvSpPr/>
            <p:nvPr/>
          </p:nvSpPr>
          <p:spPr>
            <a:xfrm>
              <a:off x="5999040" y="495468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999040" y="512136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999040" y="528804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999040" y="545652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999040" y="560556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0" name=""/>
          <p:cNvGrpSpPr/>
          <p:nvPr/>
        </p:nvGrpSpPr>
        <p:grpSpPr>
          <a:xfrm>
            <a:off x="3846600" y="2784600"/>
            <a:ext cx="685800" cy="650880"/>
            <a:chOff x="3846600" y="2784600"/>
            <a:chExt cx="685800" cy="650880"/>
          </a:xfrm>
        </p:grpSpPr>
        <p:sp>
          <p:nvSpPr>
            <p:cNvPr id="581" name=""/>
            <p:cNvSpPr/>
            <p:nvPr/>
          </p:nvSpPr>
          <p:spPr>
            <a:xfrm>
              <a:off x="3846600" y="278460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846600" y="295128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3846600" y="311796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846600" y="328644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846600" y="343548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6" name=""/>
          <p:cNvGrpSpPr/>
          <p:nvPr/>
        </p:nvGrpSpPr>
        <p:grpSpPr>
          <a:xfrm>
            <a:off x="5987880" y="2770200"/>
            <a:ext cx="685800" cy="650880"/>
            <a:chOff x="5987880" y="2770200"/>
            <a:chExt cx="685800" cy="650880"/>
          </a:xfrm>
        </p:grpSpPr>
        <p:sp>
          <p:nvSpPr>
            <p:cNvPr id="587" name=""/>
            <p:cNvSpPr/>
            <p:nvPr/>
          </p:nvSpPr>
          <p:spPr>
            <a:xfrm>
              <a:off x="5987880" y="277020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987880" y="293688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987880" y="310356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5987880" y="327204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987880" y="342108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2" name=""/>
          <p:cNvGrpSpPr/>
          <p:nvPr/>
        </p:nvGrpSpPr>
        <p:grpSpPr>
          <a:xfrm>
            <a:off x="1709640" y="4975200"/>
            <a:ext cx="685800" cy="650880"/>
            <a:chOff x="1709640" y="4975200"/>
            <a:chExt cx="685800" cy="650880"/>
          </a:xfrm>
        </p:grpSpPr>
        <p:sp>
          <p:nvSpPr>
            <p:cNvPr id="593" name=""/>
            <p:cNvSpPr/>
            <p:nvPr/>
          </p:nvSpPr>
          <p:spPr>
            <a:xfrm>
              <a:off x="1709640" y="497520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1709640" y="514188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1709640" y="530856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709640" y="547704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709640" y="562608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8" name=""/>
          <p:cNvSpPr/>
          <p:nvPr/>
        </p:nvSpPr>
        <p:spPr>
          <a:xfrm>
            <a:off x="3408480" y="1711440"/>
            <a:ext cx="1738080" cy="442728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5532480" y="1698480"/>
            <a:ext cx="1738440" cy="442764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9ADB-656F-4972-87B5-2909F922CB90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95EA88-9924-4B1E-A128-D280754E6A0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ussian roulet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players A and B alternate aiming revolver at themsel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un starts emp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fore pulling trigger each player must load new bullet in revol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revolver doesn’t go off player hands gun over to oppon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E974-B372-4212-98BB-ADDAC4F670AB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92A098-9BED-4CD9-96D5-A70532E0FEC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rvival probabil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3" name=""/>
          <p:cNvGrpSpPr/>
          <p:nvPr/>
        </p:nvGrpSpPr>
        <p:grpSpPr>
          <a:xfrm>
            <a:off x="1469520" y="1601640"/>
            <a:ext cx="1404000" cy="981000"/>
            <a:chOff x="1469520" y="1601640"/>
            <a:chExt cx="1404000" cy="981000"/>
          </a:xfrm>
        </p:grpSpPr>
        <p:sp>
          <p:nvSpPr>
            <p:cNvPr id="604" name=""/>
            <p:cNvSpPr/>
            <p:nvPr/>
          </p:nvSpPr>
          <p:spPr>
            <a:xfrm flipH="1">
              <a:off x="1469520" y="2081160"/>
              <a:ext cx="584280" cy="50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2104920" y="2081160"/>
              <a:ext cx="768600" cy="46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1892880" y="16016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7" name=""/>
          <p:cNvGrpSpPr/>
          <p:nvPr/>
        </p:nvGrpSpPr>
        <p:grpSpPr>
          <a:xfrm>
            <a:off x="2475000" y="2389320"/>
            <a:ext cx="1402920" cy="981000"/>
            <a:chOff x="2475000" y="2389320"/>
            <a:chExt cx="1402920" cy="981000"/>
          </a:xfrm>
        </p:grpSpPr>
        <p:sp>
          <p:nvSpPr>
            <p:cNvPr id="608" name=""/>
            <p:cNvSpPr/>
            <p:nvPr/>
          </p:nvSpPr>
          <p:spPr>
            <a:xfrm flipH="1">
              <a:off x="2475000" y="2868840"/>
              <a:ext cx="583920" cy="50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109680" y="2868840"/>
              <a:ext cx="768240" cy="46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2905200" y="23893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1" name=""/>
          <p:cNvGrpSpPr/>
          <p:nvPr/>
        </p:nvGrpSpPr>
        <p:grpSpPr>
          <a:xfrm>
            <a:off x="3610080" y="3141720"/>
            <a:ext cx="1402920" cy="981000"/>
            <a:chOff x="3610080" y="3141720"/>
            <a:chExt cx="1402920" cy="981000"/>
          </a:xfrm>
        </p:grpSpPr>
        <p:sp>
          <p:nvSpPr>
            <p:cNvPr id="612" name=""/>
            <p:cNvSpPr/>
            <p:nvPr/>
          </p:nvSpPr>
          <p:spPr>
            <a:xfrm flipH="1">
              <a:off x="3610080" y="3621240"/>
              <a:ext cx="583920" cy="50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244760" y="3621240"/>
              <a:ext cx="768240" cy="46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032360" y="31417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5" name=""/>
          <p:cNvGrpSpPr/>
          <p:nvPr/>
        </p:nvGrpSpPr>
        <p:grpSpPr>
          <a:xfrm>
            <a:off x="4680000" y="3876840"/>
            <a:ext cx="1402920" cy="981000"/>
            <a:chOff x="4680000" y="3876840"/>
            <a:chExt cx="1402920" cy="981000"/>
          </a:xfrm>
        </p:grpSpPr>
        <p:sp>
          <p:nvSpPr>
            <p:cNvPr id="616" name=""/>
            <p:cNvSpPr/>
            <p:nvPr/>
          </p:nvSpPr>
          <p:spPr>
            <a:xfrm flipH="1">
              <a:off x="4680000" y="4356360"/>
              <a:ext cx="583920" cy="50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314680" y="4356360"/>
              <a:ext cx="768240" cy="46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110200" y="38768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9" name=""/>
          <p:cNvGrpSpPr/>
          <p:nvPr/>
        </p:nvGrpSpPr>
        <p:grpSpPr>
          <a:xfrm>
            <a:off x="5783400" y="4594320"/>
            <a:ext cx="1402920" cy="981000"/>
            <a:chOff x="5783400" y="4594320"/>
            <a:chExt cx="1402920" cy="981000"/>
          </a:xfrm>
        </p:grpSpPr>
        <p:sp>
          <p:nvSpPr>
            <p:cNvPr id="620" name=""/>
            <p:cNvSpPr/>
            <p:nvPr/>
          </p:nvSpPr>
          <p:spPr>
            <a:xfrm flipH="1">
              <a:off x="5783400" y="5073840"/>
              <a:ext cx="583920" cy="50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418080" y="5073840"/>
              <a:ext cx="768240" cy="46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6205680" y="45943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3" name=""/>
          <p:cNvSpPr/>
          <p:nvPr/>
        </p:nvSpPr>
        <p:spPr>
          <a:xfrm>
            <a:off x="1001160" y="196848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439360" y="190188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887120" y="282096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541320" y="270360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7" name=""/>
          <p:cNvGrpSpPr/>
          <p:nvPr/>
        </p:nvGrpSpPr>
        <p:grpSpPr>
          <a:xfrm>
            <a:off x="1152360" y="2408400"/>
            <a:ext cx="250920" cy="568080"/>
            <a:chOff x="1152360" y="2408400"/>
            <a:chExt cx="250920" cy="568080"/>
          </a:xfrm>
        </p:grpSpPr>
        <p:sp>
          <p:nvSpPr>
            <p:cNvPr id="628" name=""/>
            <p:cNvSpPr/>
            <p:nvPr/>
          </p:nvSpPr>
          <p:spPr>
            <a:xfrm>
              <a:off x="1270080" y="2408400"/>
              <a:ext cx="0" cy="56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152360" y="2592360"/>
              <a:ext cx="250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0" name=""/>
          <p:cNvGrpSpPr/>
          <p:nvPr/>
        </p:nvGrpSpPr>
        <p:grpSpPr>
          <a:xfrm>
            <a:off x="2206800" y="3313080"/>
            <a:ext cx="250560" cy="568440"/>
            <a:chOff x="2206800" y="3313080"/>
            <a:chExt cx="250560" cy="568440"/>
          </a:xfrm>
        </p:grpSpPr>
        <p:sp>
          <p:nvSpPr>
            <p:cNvPr id="631" name=""/>
            <p:cNvSpPr/>
            <p:nvPr/>
          </p:nvSpPr>
          <p:spPr>
            <a:xfrm>
              <a:off x="2324160" y="3313080"/>
              <a:ext cx="0" cy="56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2206800" y="3497400"/>
              <a:ext cx="250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3" name=""/>
          <p:cNvGrpSpPr/>
          <p:nvPr/>
        </p:nvGrpSpPr>
        <p:grpSpPr>
          <a:xfrm>
            <a:off x="3343320" y="4165560"/>
            <a:ext cx="250920" cy="568440"/>
            <a:chOff x="3343320" y="4165560"/>
            <a:chExt cx="250920" cy="568440"/>
          </a:xfrm>
        </p:grpSpPr>
        <p:sp>
          <p:nvSpPr>
            <p:cNvPr id="634" name=""/>
            <p:cNvSpPr/>
            <p:nvPr/>
          </p:nvSpPr>
          <p:spPr>
            <a:xfrm>
              <a:off x="3461040" y="4165560"/>
              <a:ext cx="0" cy="56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343320" y="4349880"/>
              <a:ext cx="250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6" name=""/>
          <p:cNvGrpSpPr/>
          <p:nvPr/>
        </p:nvGrpSpPr>
        <p:grpSpPr>
          <a:xfrm>
            <a:off x="4429080" y="4917960"/>
            <a:ext cx="250920" cy="568440"/>
            <a:chOff x="4429080" y="4917960"/>
            <a:chExt cx="250920" cy="568440"/>
          </a:xfrm>
        </p:grpSpPr>
        <p:sp>
          <p:nvSpPr>
            <p:cNvPr id="637" name=""/>
            <p:cNvSpPr/>
            <p:nvPr/>
          </p:nvSpPr>
          <p:spPr>
            <a:xfrm>
              <a:off x="4546800" y="4917960"/>
              <a:ext cx="0" cy="56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4429080" y="5102280"/>
              <a:ext cx="250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9" name=""/>
          <p:cNvGrpSpPr/>
          <p:nvPr/>
        </p:nvGrpSpPr>
        <p:grpSpPr>
          <a:xfrm>
            <a:off x="5481720" y="5600880"/>
            <a:ext cx="250920" cy="568080"/>
            <a:chOff x="5481720" y="5600880"/>
            <a:chExt cx="250920" cy="568080"/>
          </a:xfrm>
        </p:grpSpPr>
        <p:sp>
          <p:nvSpPr>
            <p:cNvPr id="640" name=""/>
            <p:cNvSpPr/>
            <p:nvPr/>
          </p:nvSpPr>
          <p:spPr>
            <a:xfrm>
              <a:off x="5599440" y="5600880"/>
              <a:ext cx="0" cy="56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5481720" y="5784840"/>
              <a:ext cx="250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2" name=""/>
          <p:cNvGrpSpPr/>
          <p:nvPr/>
        </p:nvGrpSpPr>
        <p:grpSpPr>
          <a:xfrm>
            <a:off x="7253280" y="5602320"/>
            <a:ext cx="250920" cy="568440"/>
            <a:chOff x="7253280" y="5602320"/>
            <a:chExt cx="250920" cy="568440"/>
          </a:xfrm>
        </p:grpSpPr>
        <p:sp>
          <p:nvSpPr>
            <p:cNvPr id="643" name=""/>
            <p:cNvSpPr/>
            <p:nvPr/>
          </p:nvSpPr>
          <p:spPr>
            <a:xfrm>
              <a:off x="7371000" y="5602320"/>
              <a:ext cx="0" cy="56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253280" y="5786640"/>
              <a:ext cx="250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5" name=""/>
          <p:cNvSpPr/>
          <p:nvPr/>
        </p:nvSpPr>
        <p:spPr>
          <a:xfrm>
            <a:off x="2957040" y="358920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093560" y="429264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7110720" y="51609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5162040" y="499428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560480" y="340668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5747760" y="417528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6766920" y="475920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E64B-707F-44C0-AA4E-00300E472135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FECAFD-0F60-4D43-89B1-DEDB8891DDC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the poi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study complex nonlinear systems e.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eco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national confli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ancial cri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based models allow us to stud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tial inter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aptive, heterogeneous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gents which face costs of information acquisition and proces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sted subsystems - economy, markets, firms, plants, employ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t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2D75-72EA-45E5-9561-3F1900EC6C6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1BC2CD-8217-412B-AFB8-915F8E9A540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project: Russian roulet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521000" y="4218120"/>
            <a:ext cx="1136520" cy="170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3635280" y="1981080"/>
            <a:ext cx="1136880" cy="170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5810400" y="2000160"/>
            <a:ext cx="1136520" cy="170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3672000" y="4222800"/>
            <a:ext cx="1136520" cy="170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796000" y="4275000"/>
            <a:ext cx="1136520" cy="170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1627920" y="4375080"/>
            <a:ext cx="79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in.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731400" y="4410000"/>
            <a:ext cx="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layer.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807160" y="4427640"/>
            <a:ext cx="113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volver.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3793680" y="2106720"/>
            <a:ext cx="85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layer.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5820480" y="2122560"/>
            <a:ext cx="107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volver.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3" name=""/>
          <p:cNvGrpSpPr/>
          <p:nvPr/>
        </p:nvGrpSpPr>
        <p:grpSpPr>
          <a:xfrm>
            <a:off x="3859200" y="4886280"/>
            <a:ext cx="685800" cy="650880"/>
            <a:chOff x="3859200" y="4886280"/>
            <a:chExt cx="685800" cy="650880"/>
          </a:xfrm>
        </p:grpSpPr>
        <p:sp>
          <p:nvSpPr>
            <p:cNvPr id="664" name=""/>
            <p:cNvSpPr/>
            <p:nvPr/>
          </p:nvSpPr>
          <p:spPr>
            <a:xfrm>
              <a:off x="3859200" y="488628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3859200" y="505296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3859200" y="521964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859200" y="538812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3859200" y="553716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9" name=""/>
          <p:cNvGrpSpPr/>
          <p:nvPr/>
        </p:nvGrpSpPr>
        <p:grpSpPr>
          <a:xfrm>
            <a:off x="5999040" y="4954680"/>
            <a:ext cx="685800" cy="650880"/>
            <a:chOff x="5999040" y="4954680"/>
            <a:chExt cx="685800" cy="650880"/>
          </a:xfrm>
        </p:grpSpPr>
        <p:sp>
          <p:nvSpPr>
            <p:cNvPr id="670" name=""/>
            <p:cNvSpPr/>
            <p:nvPr/>
          </p:nvSpPr>
          <p:spPr>
            <a:xfrm>
              <a:off x="5999040" y="495468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999040" y="512136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999040" y="528804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999040" y="545652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5999040" y="560556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5" name=""/>
          <p:cNvGrpSpPr/>
          <p:nvPr/>
        </p:nvGrpSpPr>
        <p:grpSpPr>
          <a:xfrm>
            <a:off x="3846600" y="2784600"/>
            <a:ext cx="685800" cy="650880"/>
            <a:chOff x="3846600" y="2784600"/>
            <a:chExt cx="685800" cy="650880"/>
          </a:xfrm>
        </p:grpSpPr>
        <p:sp>
          <p:nvSpPr>
            <p:cNvPr id="676" name=""/>
            <p:cNvSpPr/>
            <p:nvPr/>
          </p:nvSpPr>
          <p:spPr>
            <a:xfrm>
              <a:off x="3846600" y="278460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3846600" y="295128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3846600" y="311796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846600" y="328644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3846600" y="343548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1" name=""/>
          <p:cNvGrpSpPr/>
          <p:nvPr/>
        </p:nvGrpSpPr>
        <p:grpSpPr>
          <a:xfrm>
            <a:off x="5987880" y="2770200"/>
            <a:ext cx="685800" cy="650880"/>
            <a:chOff x="5987880" y="2770200"/>
            <a:chExt cx="685800" cy="650880"/>
          </a:xfrm>
        </p:grpSpPr>
        <p:sp>
          <p:nvSpPr>
            <p:cNvPr id="682" name=""/>
            <p:cNvSpPr/>
            <p:nvPr/>
          </p:nvSpPr>
          <p:spPr>
            <a:xfrm>
              <a:off x="5987880" y="277020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5987880" y="293688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987880" y="310356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5987880" y="327204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5987880" y="342108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7" name=""/>
          <p:cNvGrpSpPr/>
          <p:nvPr/>
        </p:nvGrpSpPr>
        <p:grpSpPr>
          <a:xfrm>
            <a:off x="1709640" y="4975200"/>
            <a:ext cx="685800" cy="650880"/>
            <a:chOff x="1709640" y="4975200"/>
            <a:chExt cx="685800" cy="650880"/>
          </a:xfrm>
        </p:grpSpPr>
        <p:sp>
          <p:nvSpPr>
            <p:cNvPr id="688" name=""/>
            <p:cNvSpPr/>
            <p:nvPr/>
          </p:nvSpPr>
          <p:spPr>
            <a:xfrm>
              <a:off x="1709640" y="497520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1709640" y="514188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1709640" y="530856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1709640" y="547704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709640" y="562608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3" name=""/>
          <p:cNvSpPr/>
          <p:nvPr/>
        </p:nvSpPr>
        <p:spPr>
          <a:xfrm>
            <a:off x="3408480" y="1711440"/>
            <a:ext cx="1738080" cy="442728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5532480" y="1698480"/>
            <a:ext cx="1738440" cy="442764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2E37-CFF8-489D-A99C-3D05724889C9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CF0F91-85ED-4129-9D49-CCF8B982721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/>
          </p:nvPr>
        </p:nvSpPr>
        <p:spPr>
          <a:xfrm>
            <a:off x="466704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.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@interface Player: SwarmObject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 name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 alive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d other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init: (int) n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setOther: o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(BOOL)isAlive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play: r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@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4876920" y="3911760"/>
            <a:ext cx="1663560" cy="13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objects: P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bles: Player kn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s own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ther he is al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nity of other p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havior: Player c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 to “aliv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revolv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7194600" y="3767040"/>
            <a:ext cx="825480" cy="8254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7264440" y="418932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4838760" y="2362320"/>
            <a:ext cx="166356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2" name=""/>
          <p:cNvCxnSpPr>
            <a:stCxn id="699" idx="4"/>
            <a:endCxn id="696" idx="2"/>
          </p:cNvCxnSpPr>
          <p:nvPr/>
        </p:nvCxnSpPr>
        <p:spPr>
          <a:xfrm rot="5400000">
            <a:off x="6337440" y="3962880"/>
            <a:ext cx="640440" cy="1899360"/>
          </a:xfrm>
          <a:prstGeom prst="bentConnector3">
            <a:avLst>
              <a:gd name="adj1" fmla="val 13571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3" name=""/>
          <p:cNvCxnSpPr>
            <a:stCxn id="699" idx="0"/>
            <a:endCxn id="701" idx="3"/>
          </p:cNvCxnSpPr>
          <p:nvPr/>
        </p:nvCxnSpPr>
        <p:spPr>
          <a:xfrm flipV="1" rot="16200000">
            <a:off x="6681960" y="2841840"/>
            <a:ext cx="745200" cy="1105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D173-5722-4733-AB65-95558648BA5C}" type="slidenum">
              <a:t>4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6FCF29-2A50-45FA-986B-73882A1DFEE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objects: Revolv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bles: Revolver kn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 of bull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havior: Gun c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ty bull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ad new bull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gage trigger and return result (fired, didn’t fi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6704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@interface Revolver: SwarmObject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 bullets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empt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load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(BOOL)trigger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@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6991200" y="3119400"/>
            <a:ext cx="825480" cy="82548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8" name=""/>
          <p:cNvCxnSpPr>
            <a:stCxn id="707" idx="4"/>
          </p:cNvCxnSpPr>
          <p:nvPr/>
        </p:nvCxnSpPr>
        <p:spPr>
          <a:xfrm rot="5400000">
            <a:off x="6134400" y="3315240"/>
            <a:ext cx="640440" cy="1899360"/>
          </a:xfrm>
          <a:prstGeom prst="bentConnector3">
            <a:avLst>
              <a:gd name="adj1" fmla="val 13571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9" name=""/>
          <p:cNvCxnSpPr>
            <a:stCxn id="707" idx="0"/>
          </p:cNvCxnSpPr>
          <p:nvPr/>
        </p:nvCxnSpPr>
        <p:spPr>
          <a:xfrm flipV="1" rot="16200000">
            <a:off x="6478920" y="2194200"/>
            <a:ext cx="745200" cy="1105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10" name=""/>
          <p:cNvSpPr/>
          <p:nvPr/>
        </p:nvSpPr>
        <p:spPr>
          <a:xfrm>
            <a:off x="7048440" y="3556080"/>
            <a:ext cx="698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F3D2-61EA-485F-B1C2-8A7CB11FB2FD}" type="slidenum">
              <a:t>42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D64B44-AB9A-482C-B8AA-10555A2D8AD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it wor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s are created in main.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 hands empty revolver object off to player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yer A loads bullet and pulls trigg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6704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layer A is alive hands gun to B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turns own id to 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yer B loads bullet and pulls trig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layer B is alive hands gun to 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turns own i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tc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698E-27A5-448C-873C-20F49C9D2F96}" type="slidenum">
              <a:t>4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BE6BBE-17A2-41D9-B5F6-4DFF87EFA51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"/>
          <p:cNvSpPr/>
          <p:nvPr/>
        </p:nvSpPr>
        <p:spPr>
          <a:xfrm>
            <a:off x="5460840" y="1574640"/>
            <a:ext cx="2578320" cy="2387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5" name=""/>
          <p:cNvCxnSpPr>
            <a:endCxn id="716" idx="2"/>
          </p:cNvCxnSpPr>
          <p:nvPr/>
        </p:nvCxnSpPr>
        <p:spPr>
          <a:xfrm rot="10800000">
            <a:off x="1370880" y="2401200"/>
            <a:ext cx="4687200" cy="3396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7" name=""/>
          <p:cNvCxnSpPr>
            <a:stCxn id="718" idx="2"/>
            <a:endCxn id="716" idx="2"/>
          </p:cNvCxnSpPr>
          <p:nvPr/>
        </p:nvCxnSpPr>
        <p:spPr>
          <a:xfrm rot="10800000">
            <a:off x="1370880" y="2401200"/>
            <a:ext cx="2946960" cy="2405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it works (con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787320" y="1574640"/>
            <a:ext cx="1168560" cy="876600"/>
          </a:xfrm>
          <a:prstGeom prst="flowChartDocumen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.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825480" y="2610000"/>
            <a:ext cx="758880" cy="73656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816200" y="2711520"/>
            <a:ext cx="574560" cy="558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2" name=""/>
          <p:cNvCxnSpPr>
            <a:stCxn id="720" idx="6"/>
            <a:endCxn id="721" idx="2"/>
          </p:cNvCxnSpPr>
          <p:nvPr/>
        </p:nvCxnSpPr>
        <p:spPr>
          <a:xfrm>
            <a:off x="1584360" y="2977920"/>
            <a:ext cx="232560" cy="133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23" name=""/>
          <p:cNvSpPr/>
          <p:nvPr/>
        </p:nvSpPr>
        <p:spPr>
          <a:xfrm>
            <a:off x="2577960" y="2610000"/>
            <a:ext cx="758880" cy="73656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4" name=""/>
          <p:cNvCxnSpPr/>
          <p:nvPr/>
        </p:nvCxnSpPr>
        <p:spPr>
          <a:xfrm>
            <a:off x="2371680" y="2965320"/>
            <a:ext cx="232560" cy="136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25" name=""/>
          <p:cNvSpPr/>
          <p:nvPr/>
        </p:nvSpPr>
        <p:spPr>
          <a:xfrm>
            <a:off x="2565360" y="3473280"/>
            <a:ext cx="758880" cy="736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3556080" y="3575160"/>
            <a:ext cx="574560" cy="558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7" name=""/>
          <p:cNvCxnSpPr>
            <a:stCxn id="725" idx="6"/>
            <a:endCxn id="726" idx="2"/>
          </p:cNvCxnSpPr>
          <p:nvPr/>
        </p:nvCxnSpPr>
        <p:spPr>
          <a:xfrm>
            <a:off x="3324240" y="3841560"/>
            <a:ext cx="232560" cy="133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28" name=""/>
          <p:cNvSpPr/>
          <p:nvPr/>
        </p:nvSpPr>
        <p:spPr>
          <a:xfrm>
            <a:off x="4317840" y="3473280"/>
            <a:ext cx="758880" cy="736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4317840" y="4438800"/>
            <a:ext cx="758880" cy="73656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5308560" y="4540320"/>
            <a:ext cx="574560" cy="558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0" name=""/>
          <p:cNvCxnSpPr>
            <a:stCxn id="718" idx="6"/>
            <a:endCxn id="729" idx="2"/>
          </p:cNvCxnSpPr>
          <p:nvPr/>
        </p:nvCxnSpPr>
        <p:spPr>
          <a:xfrm>
            <a:off x="5076720" y="4806720"/>
            <a:ext cx="232560" cy="133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1" name=""/>
          <p:cNvCxnSpPr/>
          <p:nvPr/>
        </p:nvCxnSpPr>
        <p:spPr>
          <a:xfrm>
            <a:off x="4644720" y="4260960"/>
            <a:ext cx="3960" cy="2419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2" name=""/>
          <p:cNvCxnSpPr/>
          <p:nvPr/>
        </p:nvCxnSpPr>
        <p:spPr>
          <a:xfrm>
            <a:off x="2917440" y="3295800"/>
            <a:ext cx="3960" cy="2419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3" name=""/>
          <p:cNvCxnSpPr>
            <a:stCxn id="723" idx="0"/>
            <a:endCxn id="716" idx="3"/>
          </p:cNvCxnSpPr>
          <p:nvPr/>
        </p:nvCxnSpPr>
        <p:spPr>
          <a:xfrm flipV="1" rot="16200000">
            <a:off x="2157840" y="1810080"/>
            <a:ext cx="597600" cy="1002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4" name=""/>
          <p:cNvSpPr/>
          <p:nvPr/>
        </p:nvSpPr>
        <p:spPr>
          <a:xfrm>
            <a:off x="6083280" y="4464000"/>
            <a:ext cx="758880" cy="73656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5" name=""/>
          <p:cNvCxnSpPr/>
          <p:nvPr/>
        </p:nvCxnSpPr>
        <p:spPr>
          <a:xfrm>
            <a:off x="5877000" y="4819320"/>
            <a:ext cx="232560" cy="133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6" name=""/>
          <p:cNvSpPr/>
          <p:nvPr/>
        </p:nvSpPr>
        <p:spPr>
          <a:xfrm>
            <a:off x="6070680" y="5327640"/>
            <a:ext cx="758880" cy="736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7061040" y="5429160"/>
            <a:ext cx="574920" cy="558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8" name=""/>
          <p:cNvCxnSpPr>
            <a:stCxn id="736" idx="6"/>
            <a:endCxn id="737" idx="2"/>
          </p:cNvCxnSpPr>
          <p:nvPr/>
        </p:nvCxnSpPr>
        <p:spPr>
          <a:xfrm>
            <a:off x="6829200" y="5695560"/>
            <a:ext cx="232200" cy="133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9" name=""/>
          <p:cNvSpPr/>
          <p:nvPr/>
        </p:nvSpPr>
        <p:spPr>
          <a:xfrm>
            <a:off x="7823160" y="5327640"/>
            <a:ext cx="758880" cy="736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0" name=""/>
          <p:cNvCxnSpPr/>
          <p:nvPr/>
        </p:nvCxnSpPr>
        <p:spPr>
          <a:xfrm>
            <a:off x="7616880" y="5682960"/>
            <a:ext cx="232560" cy="133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1" name=""/>
          <p:cNvCxnSpPr/>
          <p:nvPr/>
        </p:nvCxnSpPr>
        <p:spPr>
          <a:xfrm>
            <a:off x="6422760" y="5149800"/>
            <a:ext cx="3960" cy="2419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42" name=""/>
          <p:cNvSpPr/>
          <p:nvPr/>
        </p:nvSpPr>
        <p:spPr>
          <a:xfrm>
            <a:off x="2301120" y="2098800"/>
            <a:ext cx="13327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A d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2309040" y="4575240"/>
            <a:ext cx="13161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B d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2301120" y="5527800"/>
            <a:ext cx="13327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A d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5" name=""/>
          <p:cNvCxnSpPr/>
          <p:nvPr/>
        </p:nvCxnSpPr>
        <p:spPr>
          <a:xfrm>
            <a:off x="8238600" y="6039000"/>
            <a:ext cx="3960" cy="2419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6" name=""/>
          <p:cNvCxnSpPr/>
          <p:nvPr/>
        </p:nvCxnSpPr>
        <p:spPr>
          <a:xfrm>
            <a:off x="4098960" y="3816000"/>
            <a:ext cx="232560" cy="133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47" name=""/>
          <p:cNvSpPr/>
          <p:nvPr/>
        </p:nvSpPr>
        <p:spPr>
          <a:xfrm>
            <a:off x="5727600" y="1619280"/>
            <a:ext cx="758880" cy="73656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5753160" y="2368440"/>
            <a:ext cx="758880" cy="736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6449040" y="178128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Player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6448680" y="2568600"/>
            <a:ext cx="141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Player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6448320" y="3254400"/>
            <a:ext cx="147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Revol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5880240" y="3143160"/>
            <a:ext cx="574560" cy="558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876C-CD74-4FA1-939F-CD68DCB0A664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7E00C1-D32A-4F32-A5E2-4E310F65F43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it works (con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2219400" y="2917800"/>
            <a:ext cx="1009440" cy="9828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v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3784680" y="2946240"/>
            <a:ext cx="923760" cy="92736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812880" y="2946240"/>
            <a:ext cx="923760" cy="92736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4938840" y="2247840"/>
            <a:ext cx="2622240" cy="368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1 THEN return self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8" name=""/>
          <p:cNvCxnSpPr/>
          <p:nvPr/>
        </p:nvCxnSpPr>
        <p:spPr>
          <a:xfrm>
            <a:off x="1787400" y="3403440"/>
            <a:ext cx="232560" cy="136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9" name=""/>
          <p:cNvCxnSpPr/>
          <p:nvPr/>
        </p:nvCxnSpPr>
        <p:spPr>
          <a:xfrm>
            <a:off x="3336840" y="3403440"/>
            <a:ext cx="232560" cy="136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0" name=""/>
          <p:cNvCxnSpPr/>
          <p:nvPr/>
        </p:nvCxnSpPr>
        <p:spPr>
          <a:xfrm>
            <a:off x="4187520" y="4019040"/>
            <a:ext cx="3960" cy="2422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1" name=""/>
          <p:cNvCxnSpPr/>
          <p:nvPr/>
        </p:nvCxnSpPr>
        <p:spPr>
          <a:xfrm flipV="1">
            <a:off x="4187880" y="2629800"/>
            <a:ext cx="2160" cy="2530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2" name=""/>
          <p:cNvSpPr/>
          <p:nvPr/>
        </p:nvSpPr>
        <p:spPr>
          <a:xfrm>
            <a:off x="4876200" y="4229280"/>
            <a:ext cx="3471120" cy="368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0 THEN send message B play: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3809880" y="4235400"/>
            <a:ext cx="758880" cy="736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813240" y="4280040"/>
            <a:ext cx="2376720" cy="6426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nd message R: lo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nd message R: trig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499760" y="2222640"/>
            <a:ext cx="2407320" cy="6426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heads THEN return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LSE return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3276720" y="2870280"/>
            <a:ext cx="11412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 flipV="1">
            <a:off x="1790640" y="359388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 flipH="1" flipV="1">
            <a:off x="4406760" y="4140000"/>
            <a:ext cx="470160" cy="25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 flipH="1">
            <a:off x="4381560" y="2438280"/>
            <a:ext cx="55872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029B-7956-4E72-A422-D5FDD14478BB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5FD6B1-431B-4636-BD21-449BD35F61B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resour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ive-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w textbooks available because language is simply a superset of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 resource: Manual from Apple webs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 website at SFI: Code, manuals, lin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r community, mailinglists (and archiv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g, steal and borrow other people’s cod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7AE5-438D-4B88-835D-2A90122CB360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1B4C84-77BC-441D-9293-21D45C7143A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to find hel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 Swarm webs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ttp://www.santafe.edu/projects/sw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Objective-C manu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 to above and look under Objective-C re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scribing to mailingl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d mail to majordomo@santafe.edu wi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scribe swarm-support &lt;Your E-mail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FC33-5855-43DE-8F3E-905537E6CE7B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F8CCF0-13B4-4A47-8A11-41C422A9FD4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ottom up mode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862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05440" y="4373640"/>
            <a:ext cx="1235160" cy="1376280"/>
          </a:xfrm>
          <a:prstGeom prst="flowChartMultidocument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492440" y="3965040"/>
            <a:ext cx="1490760" cy="1636560"/>
          </a:xfrm>
          <a:custGeom>
            <a:avLst/>
            <a:gdLst>
              <a:gd name="textAreaLeft" fmla="*/ 0 w 1490760"/>
              <a:gd name="textAreaRight" fmla="*/ 1491120 w 1490760"/>
              <a:gd name="textAreaTop" fmla="*/ 0 h 1636560"/>
              <a:gd name="textAreaBottom" fmla="*/ 1636920 h 1636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956040" y="225432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118120" y="430848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40360" y="2909880"/>
            <a:ext cx="787680" cy="825480"/>
          </a:xfrm>
          <a:custGeom>
            <a:avLst/>
            <a:gdLst/>
            <a:ahLst/>
            <a:rect l="l" t="t" r="r" b="b"/>
            <a:pathLst>
              <a:path w="496" h="520">
                <a:moveTo>
                  <a:pt x="23" y="0"/>
                </a:moveTo>
                <a:cubicBezTo>
                  <a:pt x="252" y="76"/>
                  <a:pt x="482" y="152"/>
                  <a:pt x="489" y="233"/>
                </a:cubicBezTo>
                <a:cubicBezTo>
                  <a:pt x="496" y="314"/>
                  <a:pt x="134" y="520"/>
                  <a:pt x="67" y="489"/>
                </a:cubicBezTo>
                <a:cubicBezTo>
                  <a:pt x="0" y="458"/>
                  <a:pt x="82" y="121"/>
                  <a:pt x="89" y="45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29280" y="3121200"/>
            <a:ext cx="317520" cy="3711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100920" y="2786040"/>
            <a:ext cx="828360" cy="264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224400" y="3703680"/>
            <a:ext cx="687240" cy="388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endCxn id="51" idx="1"/>
          </p:cNvCxnSpPr>
          <p:nvPr/>
        </p:nvCxnSpPr>
        <p:spPr>
          <a:xfrm>
            <a:off x="6435360" y="4498920"/>
            <a:ext cx="370440" cy="564480"/>
          </a:xfrm>
          <a:prstGeom prst="bentConnector3">
            <a:avLst>
              <a:gd name="adj1" fmla="val 49708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>
            <a:off x="4005360" y="3616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4840" y="5485320"/>
            <a:ext cx="260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ganizations of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122640" y="3809160"/>
            <a:ext cx="177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imate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043400" y="4883760"/>
            <a:ext cx="66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25280" y="5898240"/>
            <a:ext cx="209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tificial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00040" y="3718440"/>
            <a:ext cx="11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486400" y="480060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48120" y="1981080"/>
            <a:ext cx="3370320" cy="39625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788000" y="2068560"/>
            <a:ext cx="1482480" cy="635040"/>
          </a:xfrm>
          <a:prstGeom prst="cube">
            <a:avLst>
              <a:gd name="adj" fmla="val 25000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473720" y="2273400"/>
            <a:ext cx="1482480" cy="635040"/>
          </a:xfrm>
          <a:prstGeom prst="cube">
            <a:avLst>
              <a:gd name="adj" fmla="val 25000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311640" y="235728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ff99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240080" y="341316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382280" y="2940840"/>
            <a:ext cx="191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animate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495680" y="449568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800600" y="4952880"/>
            <a:ext cx="476280" cy="441360"/>
          </a:xfrm>
          <a:prstGeom prst="smileyFace">
            <a:avLst>
              <a:gd name="adj" fmla="val 518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246480" y="342900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649680" y="284652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41360" y="1619280"/>
            <a:ext cx="3048120" cy="2636640"/>
          </a:xfrm>
          <a:prstGeom prst="cloudCallout">
            <a:avLst>
              <a:gd name="adj1" fmla="val 76564"/>
              <a:gd name="adj2" fmla="val 2001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cond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on1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on2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" name=""/>
          <p:cNvCxnSpPr/>
          <p:nvPr/>
        </p:nvCxnSpPr>
        <p:spPr>
          <a:xfrm flipH="1" rot="16200000">
            <a:off x="3451680" y="4111200"/>
            <a:ext cx="847080" cy="1011960"/>
          </a:xfrm>
          <a:prstGeom prst="curvedConnector2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9" name=""/>
          <p:cNvCxnSpPr/>
          <p:nvPr/>
        </p:nvCxnSpPr>
        <p:spPr>
          <a:xfrm flipV="1">
            <a:off x="4925520" y="3338640"/>
            <a:ext cx="623160" cy="295560"/>
          </a:xfrm>
          <a:prstGeom prst="curvedConnector2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1A2D-ADB6-42AA-A88F-2E54E6A24C3A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00B82A-4EC0-4F6D-96AB-C28FEBFDC36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y of Sw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unched in 1994 by Chris Langton at Santa Fe Institute in New Mexico (Contributors: Chris Langton, Roger Burkhart, Nelson Minar, Manor Askenazi, Glen Ropella, Sven Thommesen, Marcus Daniels, Alex Lancaster, Vladimir Jojic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 a shared simulation platform for AB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cilitate the development of mod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eased in beta in ‘95, 1.0 release in January ‘97, 1.1 with Win95/NT support April ‘98, 2.0 with Java April ‘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25F7-A911-49FD-A636-76357D7446A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0AD509-A958-4F52-B7BF-22B20EAA62C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sic fa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 is a collection of object oriented software libraries which provide support for simulation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s build simulations by incorporating Swarm library objects in their own 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raries are written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ive-C : A superset of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cl/Tk: Scripting language and GUI widgets (transparent to user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ailable for Unix and Windows 95/98/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BDE8-1CD7-4F4C-8FAE-80112C44479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7F5BBD-F324-421A-B6C7-C3DE0E3F247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arm mode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862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rot="16200000">
            <a:off x="2867040" y="3952440"/>
            <a:ext cx="1490760" cy="1636920"/>
          </a:xfrm>
          <a:custGeom>
            <a:avLst/>
            <a:gdLst>
              <a:gd name="textAreaLeft" fmla="*/ 0 w 1490760"/>
              <a:gd name="textAreaRight" fmla="*/ 1491120 w 1490760"/>
              <a:gd name="textAreaTop" fmla="*/ 0 h 1636920"/>
              <a:gd name="textAreaBottom" fmla="*/ 1637280 h 163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330280" y="2241720"/>
            <a:ext cx="476280" cy="44100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492360" y="429588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379600" y="3603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179440" y="5472720"/>
            <a:ext cx="260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ganizations of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496880" y="3796200"/>
            <a:ext cx="177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imate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618640" y="588528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60640" y="478800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422360" y="1968480"/>
            <a:ext cx="3370320" cy="39625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162240" y="2055960"/>
            <a:ext cx="1482840" cy="634680"/>
          </a:xfrm>
          <a:prstGeom prst="cube">
            <a:avLst>
              <a:gd name="adj" fmla="val 25000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47960" y="2260440"/>
            <a:ext cx="1482840" cy="635040"/>
          </a:xfrm>
          <a:prstGeom prst="cube">
            <a:avLst>
              <a:gd name="adj" fmla="val 25000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85880" y="234468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614680" y="340056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ff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56520" y="2927880"/>
            <a:ext cx="191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animate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870280" y="448308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174840" y="4940280"/>
            <a:ext cx="476280" cy="441360"/>
          </a:xfrm>
          <a:prstGeom prst="smileyFace">
            <a:avLst>
              <a:gd name="adj" fmla="val 518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20720" y="341640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023920" y="283356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/>
          <p:nvPr/>
        </p:nvCxnSpPr>
        <p:spPr>
          <a:xfrm flipH="1" rot="16200000">
            <a:off x="1825920" y="4098600"/>
            <a:ext cx="847080" cy="1011960"/>
          </a:xfrm>
          <a:prstGeom prst="curvedConnector2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/>
          <p:nvPr/>
        </p:nvCxnSpPr>
        <p:spPr>
          <a:xfrm flipV="1">
            <a:off x="3300480" y="3324960"/>
            <a:ext cx="622800" cy="296280"/>
          </a:xfrm>
          <a:prstGeom prst="curvedConnector2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6" name=""/>
          <p:cNvSpPr/>
          <p:nvPr/>
        </p:nvSpPr>
        <p:spPr>
          <a:xfrm>
            <a:off x="4952880" y="1955880"/>
            <a:ext cx="3370320" cy="396216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970240" y="586008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ezbin" descr=""/>
          <p:cNvPicPr/>
          <p:nvPr/>
        </p:nvPicPr>
        <p:blipFill>
          <a:blip r:embed="rId1"/>
          <a:stretch/>
        </p:blipFill>
        <p:spPr>
          <a:xfrm>
            <a:off x="6908760" y="2220840"/>
            <a:ext cx="1231920" cy="8366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6959520" y="3200400"/>
            <a:ext cx="1136880" cy="102384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6996240" y="3219480"/>
            <a:ext cx="1063440" cy="974520"/>
          </a:xfrm>
          <a:prstGeom prst="rect">
            <a:avLst/>
          </a:prstGeom>
          <a:ln w="0">
            <a:noFill/>
          </a:ln>
        </p:spPr>
      </p:pic>
      <p:cxnSp>
        <p:nvCxnSpPr>
          <p:cNvPr id="111" name=""/>
          <p:cNvCxnSpPr>
            <a:stCxn id="94" idx="3"/>
            <a:endCxn id="112" idx="2"/>
          </p:cNvCxnSpPr>
          <p:nvPr/>
        </p:nvCxnSpPr>
        <p:spPr>
          <a:xfrm flipV="1">
            <a:off x="4792680" y="3584160"/>
            <a:ext cx="443520" cy="365760"/>
          </a:xfrm>
          <a:prstGeom prst="bentConnector3">
            <a:avLst>
              <a:gd name="adj1" fmla="val 49796"/>
            </a:avLst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5235480" y="2527200"/>
            <a:ext cx="1317600" cy="571680"/>
          </a:xfrm>
          <a:prstGeom prst="cube">
            <a:avLst>
              <a:gd name="adj" fmla="val 25000"/>
            </a:avLst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235480" y="3251160"/>
            <a:ext cx="1254240" cy="533520"/>
          </a:xfrm>
          <a:prstGeom prst="cube">
            <a:avLst>
              <a:gd name="adj" fmla="val 25000"/>
            </a:avLst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235480" y="4000680"/>
            <a:ext cx="1279800" cy="571320"/>
          </a:xfrm>
          <a:prstGeom prst="cube">
            <a:avLst>
              <a:gd name="adj" fmla="val 25000"/>
            </a:avLst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235480" y="4749840"/>
            <a:ext cx="1279800" cy="57132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6" name=""/>
          <p:cNvCxnSpPr>
            <a:stCxn id="113" idx="2"/>
            <a:endCxn id="94" idx="3"/>
          </p:cNvCxnSpPr>
          <p:nvPr/>
        </p:nvCxnSpPr>
        <p:spPr>
          <a:xfrm flipV="1" rot="10800000">
            <a:off x="4791960" y="2883240"/>
            <a:ext cx="443520" cy="1065960"/>
          </a:xfrm>
          <a:prstGeom prst="bentConnector3">
            <a:avLst>
              <a:gd name="adj1" fmla="val 49796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7" name=""/>
          <p:cNvCxnSpPr>
            <a:stCxn id="114" idx="2"/>
            <a:endCxn id="94" idx="3"/>
          </p:cNvCxnSpPr>
          <p:nvPr/>
        </p:nvCxnSpPr>
        <p:spPr>
          <a:xfrm rot="10800000">
            <a:off x="4791960" y="3948840"/>
            <a:ext cx="443520" cy="408960"/>
          </a:xfrm>
          <a:prstGeom prst="bentConnector3">
            <a:avLst>
              <a:gd name="adj1" fmla="val 49796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8" name=""/>
          <p:cNvCxnSpPr>
            <a:stCxn id="115" idx="2"/>
            <a:endCxn id="94" idx="3"/>
          </p:cNvCxnSpPr>
          <p:nvPr/>
        </p:nvCxnSpPr>
        <p:spPr>
          <a:xfrm rot="10800000">
            <a:off x="4791960" y="3948840"/>
            <a:ext cx="443520" cy="1157760"/>
          </a:xfrm>
          <a:prstGeom prst="bentConnector3">
            <a:avLst>
              <a:gd name="adj1" fmla="val 49796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pic>
        <p:nvPicPr>
          <p:cNvPr id="119" name="modelprobe" descr=""/>
          <p:cNvPicPr/>
          <p:nvPr/>
        </p:nvPicPr>
        <p:blipFill>
          <a:blip r:embed="rId3"/>
          <a:stretch/>
        </p:blipFill>
        <p:spPr>
          <a:xfrm>
            <a:off x="6883560" y="4419720"/>
            <a:ext cx="1282680" cy="105084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3" idx="4"/>
            <a:endCxn id="108" idx="1"/>
          </p:cNvCxnSpPr>
          <p:nvPr/>
        </p:nvCxnSpPr>
        <p:spPr>
          <a:xfrm flipV="1">
            <a:off x="6409800" y="2639520"/>
            <a:ext cx="499320" cy="244800"/>
          </a:xfrm>
          <a:prstGeom prst="bentConnector3">
            <a:avLst>
              <a:gd name="adj1" fmla="val 64285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1" name=""/>
          <p:cNvCxnSpPr>
            <a:stCxn id="112" idx="5"/>
            <a:endCxn id="110" idx="1"/>
          </p:cNvCxnSpPr>
          <p:nvPr/>
        </p:nvCxnSpPr>
        <p:spPr>
          <a:xfrm>
            <a:off x="6489360" y="3451320"/>
            <a:ext cx="506880" cy="255960"/>
          </a:xfrm>
          <a:prstGeom prst="bentConnector3">
            <a:avLst>
              <a:gd name="adj1" fmla="val 49822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2" name=""/>
          <p:cNvCxnSpPr>
            <a:stCxn id="114" idx="5"/>
            <a:endCxn id="109" idx="1"/>
          </p:cNvCxnSpPr>
          <p:nvPr/>
        </p:nvCxnSpPr>
        <p:spPr>
          <a:xfrm flipV="1">
            <a:off x="6515280" y="3712680"/>
            <a:ext cx="444960" cy="502560"/>
          </a:xfrm>
          <a:prstGeom prst="bentConnector3">
            <a:avLst>
              <a:gd name="adj1" fmla="val 52469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3" name=""/>
          <p:cNvCxnSpPr>
            <a:stCxn id="119" idx="1"/>
            <a:endCxn id="115" idx="4"/>
          </p:cNvCxnSpPr>
          <p:nvPr/>
        </p:nvCxnSpPr>
        <p:spPr>
          <a:xfrm flipV="1" rot="10800000">
            <a:off x="6371640" y="4944600"/>
            <a:ext cx="511920" cy="162720"/>
          </a:xfrm>
          <a:prstGeom prst="bentConnector3">
            <a:avLst>
              <a:gd name="adj1" fmla="val 3596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B227-1E63-4289-A7F7-1020FB967D4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618C4B-A77A-46F3-A481-7B5A3D4DCEE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 Oriented Progra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25480" y="2424240"/>
            <a:ext cx="2828880" cy="281592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606680" y="3147840"/>
            <a:ext cx="1528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742040" y="4129200"/>
            <a:ext cx="1253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83040" y="3065400"/>
            <a:ext cx="904680" cy="317520"/>
          </a:xfrm>
          <a:custGeom>
            <a:avLst/>
            <a:gdLst/>
            <a:ahLst/>
            <a:rect l="l" t="t" r="r" b="b"/>
            <a:pathLst>
              <a:path w="570" h="200">
                <a:moveTo>
                  <a:pt x="0" y="199"/>
                </a:moveTo>
                <a:lnTo>
                  <a:pt x="98" y="98"/>
                </a:lnTo>
                <a:lnTo>
                  <a:pt x="180" y="44"/>
                </a:lnTo>
                <a:lnTo>
                  <a:pt x="253" y="8"/>
                </a:lnTo>
                <a:lnTo>
                  <a:pt x="288" y="0"/>
                </a:lnTo>
                <a:lnTo>
                  <a:pt x="307" y="8"/>
                </a:lnTo>
                <a:lnTo>
                  <a:pt x="325" y="26"/>
                </a:lnTo>
                <a:lnTo>
                  <a:pt x="343" y="53"/>
                </a:lnTo>
                <a:lnTo>
                  <a:pt x="352" y="90"/>
                </a:lnTo>
                <a:lnTo>
                  <a:pt x="352" y="117"/>
                </a:lnTo>
                <a:lnTo>
                  <a:pt x="361" y="144"/>
                </a:lnTo>
                <a:lnTo>
                  <a:pt x="406" y="134"/>
                </a:lnTo>
                <a:lnTo>
                  <a:pt x="443" y="126"/>
                </a:lnTo>
                <a:lnTo>
                  <a:pt x="478" y="107"/>
                </a:lnTo>
                <a:lnTo>
                  <a:pt x="514" y="98"/>
                </a:lnTo>
                <a:lnTo>
                  <a:pt x="533" y="98"/>
                </a:lnTo>
                <a:lnTo>
                  <a:pt x="569" y="90"/>
                </a:lnTo>
                <a:lnTo>
                  <a:pt x="567" y="77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274920" y="4021200"/>
            <a:ext cx="838440" cy="261720"/>
          </a:xfrm>
          <a:custGeom>
            <a:avLst/>
            <a:gdLst/>
            <a:ahLst/>
            <a:rect l="l" t="t" r="r" b="b"/>
            <a:pathLst>
              <a:path w="528" h="165">
                <a:moveTo>
                  <a:pt x="0" y="164"/>
                </a:moveTo>
                <a:lnTo>
                  <a:pt x="12" y="126"/>
                </a:lnTo>
                <a:lnTo>
                  <a:pt x="58" y="71"/>
                </a:lnTo>
                <a:lnTo>
                  <a:pt x="121" y="35"/>
                </a:lnTo>
                <a:lnTo>
                  <a:pt x="157" y="27"/>
                </a:lnTo>
                <a:lnTo>
                  <a:pt x="175" y="54"/>
                </a:lnTo>
                <a:lnTo>
                  <a:pt x="194" y="71"/>
                </a:lnTo>
                <a:lnTo>
                  <a:pt x="221" y="71"/>
                </a:lnTo>
                <a:lnTo>
                  <a:pt x="284" y="44"/>
                </a:lnTo>
                <a:lnTo>
                  <a:pt x="311" y="27"/>
                </a:lnTo>
                <a:lnTo>
                  <a:pt x="338" y="17"/>
                </a:lnTo>
                <a:lnTo>
                  <a:pt x="357" y="27"/>
                </a:lnTo>
                <a:lnTo>
                  <a:pt x="384" y="35"/>
                </a:lnTo>
                <a:lnTo>
                  <a:pt x="420" y="35"/>
                </a:lnTo>
                <a:lnTo>
                  <a:pt x="447" y="27"/>
                </a:lnTo>
                <a:lnTo>
                  <a:pt x="483" y="8"/>
                </a:lnTo>
                <a:lnTo>
                  <a:pt x="519" y="0"/>
                </a:lnTo>
                <a:lnTo>
                  <a:pt x="527" y="1"/>
                </a:lnTo>
              </a:path>
            </a:pathLst>
          </a:custGeom>
          <a:noFill/>
          <a:ln cap="rnd"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774600" y="2789280"/>
            <a:ext cx="796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825720" y="3575160"/>
            <a:ext cx="1303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477800" y="5452920"/>
            <a:ext cx="1379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686640" y="2205000"/>
            <a:ext cx="825480" cy="8254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95920" y="3348000"/>
            <a:ext cx="825480" cy="8254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705200" y="4491000"/>
            <a:ext cx="825480" cy="8254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58040" y="4568760"/>
            <a:ext cx="825480" cy="8254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620120" y="3429000"/>
            <a:ext cx="825480" cy="8254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6070320" y="3071880"/>
            <a:ext cx="990360" cy="30456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97760" y="3089160"/>
            <a:ext cx="990720" cy="38124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5138640" y="4232160"/>
            <a:ext cx="914400" cy="30492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05600" y="4268880"/>
            <a:ext cx="838080" cy="38088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96080" y="3836880"/>
            <a:ext cx="752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518160" y="4992840"/>
            <a:ext cx="739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0" y="5489640"/>
            <a:ext cx="1515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581960" y="2935440"/>
            <a:ext cx="512640" cy="223560"/>
          </a:xfrm>
          <a:custGeom>
            <a:avLst/>
            <a:gdLst/>
            <a:ahLst/>
            <a:rect l="l" t="t" r="r" b="b"/>
            <a:pathLst>
              <a:path w="323" h="141">
                <a:moveTo>
                  <a:pt x="0" y="140"/>
                </a:moveTo>
                <a:lnTo>
                  <a:pt x="32" y="65"/>
                </a:lnTo>
                <a:lnTo>
                  <a:pt x="64" y="22"/>
                </a:lnTo>
                <a:lnTo>
                  <a:pt x="86" y="11"/>
                </a:lnTo>
                <a:lnTo>
                  <a:pt x="118" y="22"/>
                </a:lnTo>
                <a:lnTo>
                  <a:pt x="161" y="33"/>
                </a:lnTo>
                <a:lnTo>
                  <a:pt x="204" y="65"/>
                </a:lnTo>
                <a:lnTo>
                  <a:pt x="214" y="97"/>
                </a:lnTo>
                <a:lnTo>
                  <a:pt x="247" y="65"/>
                </a:lnTo>
                <a:lnTo>
                  <a:pt x="268" y="33"/>
                </a:lnTo>
                <a:lnTo>
                  <a:pt x="289" y="11"/>
                </a:lnTo>
                <a:lnTo>
                  <a:pt x="322" y="0"/>
                </a:lnTo>
                <a:lnTo>
                  <a:pt x="322" y="1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625160" y="2546280"/>
            <a:ext cx="1253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756400" y="3768840"/>
            <a:ext cx="70632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756480" y="262728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802040" y="4898880"/>
            <a:ext cx="739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1049400" y="3879360"/>
            <a:ext cx="2549520" cy="93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41F4-2EB9-4542-9EF5-64FF0BBD22F4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0DA210-E7F8-4FB8-BD6E-545EE02E300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5T01:43:27Z</dcterms:created>
  <dc:creator>Benedikt Stefansson</dc:creator>
  <dc:description/>
  <dc:language>en-US</dc:language>
  <cp:lastModifiedBy>Office</cp:lastModifiedBy>
  <dcterms:modified xsi:type="dcterms:W3CDTF">1999-04-02T03:28:43Z</dcterms:modified>
  <cp:revision>42</cp:revision>
  <dc:subject/>
  <dc:title>Swarmfest 1998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cce.sscnet.ucla.edu/swarmcourse</vt:lpwstr>
  </property>
  <property fmtid="{D5CDD505-2E9C-101B-9397-08002B2CF9AE}" pid="9" name="LinkColor">
    <vt:r8>16711782</vt:r8>
  </property>
  <property fmtid="{D5CDD505-2E9C-101B-9397-08002B2CF9AE}" pid="10" name="MailAddress">
    <vt:lpwstr>benedikt@ucla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swarmfest99\tutorial99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