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7300913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4646-C6F4-456C-A320-398D7F279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841C-F35B-4150-AC07-46D9307E2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8BCD-0FBE-4B40-889A-0A7722904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6465-9526-458C-8233-477216B3A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02C8-91C1-486E-B4B7-E25CE7093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BA7E-5F35-4260-BFBB-762E8F288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F555-9B32-4EC0-B8FB-EA25D3A7F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CA45-1AC8-43D2-846D-97196E68B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7B80-70BE-4EFA-A15C-05E1B7C29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099C-8651-401F-96E2-295751BDB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90A2-E350-452D-882D-0824ACD6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501D-BCD6-4572-A378-6F9A9B27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7D52D-E139-4F62-8210-F2666C8A661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A24EC-8EC8-44D8-A6AB-A695B2B23E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8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II: The libr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nkedList: Example of 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81280" y="1676520"/>
            <a:ext cx="2362320" cy="2438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ked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09680" y="3048120"/>
            <a:ext cx="495324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4520" y="48769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4520" y="403848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1992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812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3868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812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3868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D151-1B39-4498-91A1-0688920EFB5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055256-760F-492D-8A08-D77D8A5A515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172200" y="35053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Activity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s a set of actions which should be invoked at the “same tim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et of actions or action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s sched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s one level of model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10080" y="2666880"/>
            <a:ext cx="1123920" cy="725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5334120"/>
            <a:ext cx="1123920" cy="776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172200" y="44197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35053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44197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67480" y="44197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467480" y="53611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400800" y="1828800"/>
            <a:ext cx="1123920" cy="779400"/>
          </a:xfrm>
          <a:prstGeom prst="rect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" name=""/>
          <p:cNvCxnSpPr>
            <a:stCxn id="140" idx="1"/>
            <a:endCxn id="133" idx="0"/>
          </p:cNvCxnSpPr>
          <p:nvPr/>
        </p:nvCxnSpPr>
        <p:spPr>
          <a:xfrm flipV="1" rot="10800000">
            <a:off x="5971320" y="2218320"/>
            <a:ext cx="429480" cy="448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40" idx="3"/>
            <a:endCxn id="138" idx="0"/>
          </p:cNvCxnSpPr>
          <p:nvPr/>
        </p:nvCxnSpPr>
        <p:spPr>
          <a:xfrm>
            <a:off x="7524720" y="2219400"/>
            <a:ext cx="505440" cy="2201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3" idx="1"/>
            <a:endCxn id="136" idx="0"/>
          </p:cNvCxnSpPr>
          <p:nvPr/>
        </p:nvCxnSpPr>
        <p:spPr>
          <a:xfrm flipV="1" rot="10800000">
            <a:off x="5285520" y="3029400"/>
            <a:ext cx="124560" cy="47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33" idx="3"/>
            <a:endCxn id="130" idx="0"/>
          </p:cNvCxnSpPr>
          <p:nvPr/>
        </p:nvCxnSpPr>
        <p:spPr>
          <a:xfrm>
            <a:off x="6534000" y="3030120"/>
            <a:ext cx="200880" cy="47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36" idx="2"/>
            <a:endCxn id="137" idx="0"/>
          </p:cNvCxnSpPr>
          <p:nvPr/>
        </p:nvCxnSpPr>
        <p:spPr>
          <a:xfrm>
            <a:off x="5285880" y="42303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30" idx="2"/>
            <a:endCxn id="135" idx="0"/>
          </p:cNvCxnSpPr>
          <p:nvPr/>
        </p:nvCxnSpPr>
        <p:spPr>
          <a:xfrm>
            <a:off x="6733800" y="42303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7" idx="2"/>
            <a:endCxn id="134" idx="0"/>
          </p:cNvCxnSpPr>
          <p:nvPr/>
        </p:nvCxnSpPr>
        <p:spPr>
          <a:xfrm>
            <a:off x="5285880" y="51447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38" idx="2"/>
            <a:endCxn id="139" idx="0"/>
          </p:cNvCxnSpPr>
          <p:nvPr/>
        </p:nvCxnSpPr>
        <p:spPr>
          <a:xfrm>
            <a:off x="8029080" y="5168880"/>
            <a:ext cx="1080" cy="19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F408-E2E1-4A98-95AF-5949B51E9BE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9232CC-BAA1-41BC-B3BD-DA81111928F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932280" y="2971800"/>
            <a:ext cx="4752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hedule=[Schedu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Begin: 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RepeatInterval: n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hedule=[schedul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   at: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ActionTo: bu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ssage: M(eat)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1981080"/>
            <a:ext cx="33526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 define event in terms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inter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within schedule of first inv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name or action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to call, skip for action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86280" y="2239920"/>
            <a:ext cx="33703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27640" y="2133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209000" y="212724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49440" y="15652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77880" y="147780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76160" y="16066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+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48120" y="221940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97520" y="221148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35480" y="39387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0120" y="441972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0120" y="487692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20120" y="533412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71560" y="333864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71560" y="28908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8080" y="533412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45720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3809880"/>
            <a:ext cx="369720" cy="44316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5ED3-29FC-40BC-BE8A-11E3EDD04772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ACF100-535C-4FBE-BD51-39AA421CBF1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aning of time in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s in schedule can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to 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setRelativeTime: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to bas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setRelativeTime: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ll schedules are activated at beginning doesn’t matter mu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239920"/>
            <a:ext cx="400392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937040" y="21258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562720" y="21258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7220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9752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46748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9316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38680" y="2590920"/>
            <a:ext cx="198144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46880" y="24764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24764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81680" y="24782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407360" y="24782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248520" y="3733920"/>
            <a:ext cx="236196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72200" y="36194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407360" y="36194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00600" y="4952880"/>
            <a:ext cx="3733920" cy="0"/>
          </a:xfrm>
          <a:prstGeom prst="line">
            <a:avLst/>
          </a:prstGeom>
          <a:ln w="50760">
            <a:solidFill>
              <a:srgbClr val="00cc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864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722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8168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39152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0010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42920" y="274320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1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events, after which it st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642920" y="388620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2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event and repeat interval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18880" y="510552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0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 at t=1 and repeat intvl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648320" y="2438280"/>
            <a:ext cx="411480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648320" y="3581280"/>
            <a:ext cx="411480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724280"/>
            <a:ext cx="41148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63FA-C2F9-476A-98F3-A08BC4B57EB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48238E-3CC9-4D21-AD6D-00E96E3FF70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70800" y="5029200"/>
            <a:ext cx="737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setRepeatInterval: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1 createActionTo: obj message: M(message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2286000"/>
            <a:ext cx="8158320" cy="14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0 createActionTo: obj1 message:M(message1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4 createActionTo: obj4 message:M(message4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70800" y="3733920"/>
            <a:ext cx="737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setRepeatInterval: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0 createActionTo: obj message: M(message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2038320"/>
            <a:ext cx="548640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33684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6252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9732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6728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9296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257800" y="2514600"/>
            <a:ext cx="198108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65640" y="240048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91320" y="240048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00800" y="240192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026120" y="240192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648320" y="4002120"/>
            <a:ext cx="411480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80716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62520" y="5257800"/>
            <a:ext cx="2971800" cy="0"/>
          </a:xfrm>
          <a:prstGeom prst="line">
            <a:avLst/>
          </a:prstGeom>
          <a:ln w="50760">
            <a:solidFill>
              <a:srgbClr val="00cc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62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8148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9132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4008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0880" y="2286000"/>
            <a:ext cx="8382240" cy="144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ing these 3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0880" y="3809880"/>
            <a:ext cx="83822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5029200"/>
            <a:ext cx="83822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7076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69608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22960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10244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305920" y="388620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C6B5-5496-484D-B847-BEFAEEF8964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833D16-209F-4701-A168-B4E62926A04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" y="2514600"/>
            <a:ext cx="84582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peatSchedule=[Schedul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repeatSchedule setRepeatInterval: 3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peatSchedule=[repeatSchedule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repeatSchedule at: 0 createActionTo: firm message:M(do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inSchedule=[Schedul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ainSchedule at:20 createActionTo: repeatSchedu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essage: M(activateIn:):aSwarm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ainSchedule activateIn: aSwarm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7640" y="5659560"/>
            <a:ext cx="76201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8408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82880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9492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76552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0988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4660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79132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72768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77240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9076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9404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90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161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6305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9720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61160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82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5926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6597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16480" y="1641600"/>
            <a:ext cx="747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pose: A schedule which executes the “do” method on 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called “firm” every 3 periods, starting at t=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C449-2A04-4AE5-A6BA-7F52C9153D4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E9439F-99D4-4C28-9F1A-F1F376DC4A9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onGro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Groups group together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age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colle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ich should happen at same time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2743200"/>
            <a:ext cx="8512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ctionGroup=[ActionGroup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To: </a:t>
            </a:r>
            <a:r>
              <a:rPr b="0" lang="en-US" sz="1800" spc="-1" strike="noStrike">
                <a:solidFill>
                  <a:srgbClr val="00cc99"/>
                </a:solidFill>
                <a:latin typeface="Courier New"/>
              </a:rPr>
              <a:t>agent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youDo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To: </a:t>
            </a:r>
            <a:r>
              <a:rPr b="0" lang="en-US" sz="1800" spc="-1" strike="noStrike">
                <a:solidFill>
                  <a:srgbClr val="00cc99"/>
                </a:solidFill>
                <a:latin typeface="Courier New"/>
              </a:rPr>
              <a:t>agent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youD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ForEach: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group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allDo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ForEach: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group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allD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chedule at: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createAction: actionGrou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5486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4952880"/>
            <a:ext cx="9907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3276720"/>
            <a:ext cx="9907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267080" y="3809880"/>
            <a:ext cx="9907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477120" y="3276720"/>
            <a:ext cx="12952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477120" y="3809880"/>
            <a:ext cx="12952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4952880"/>
            <a:ext cx="12952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162920" y="4419720"/>
            <a:ext cx="12952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952880" y="4419720"/>
            <a:ext cx="9907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5705-2961-41F8-97AA-CE65364C0B6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38DC39-C2E0-4A86-8C75-C893AEC39FB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Schedu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74560" y="4191120"/>
            <a:ext cx="369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growthSchedule at: time+inter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ActionTo: food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: M(putValue:atX:Y:):1:x: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666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use dynamic scheduling to  schedule regrowth of food at future timestep after food is eaten by Simplebu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772400" y="3048120"/>
            <a:ext cx="888840" cy="8539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848720" y="1981080"/>
            <a:ext cx="723960" cy="7239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238880" y="4267080"/>
            <a:ext cx="160020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705720" y="5257800"/>
            <a:ext cx="812520" cy="8143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334120"/>
            <a:ext cx="357120" cy="239760"/>
          </a:xfrm>
          <a:prstGeom prst="line">
            <a:avLst/>
          </a:prstGeom>
          <a:noFill/>
          <a:ln w="60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7162920" y="5638680"/>
            <a:ext cx="395280" cy="1800"/>
          </a:xfrm>
          <a:prstGeom prst="line">
            <a:avLst/>
          </a:prstGeom>
          <a:noFill/>
          <a:ln w="60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419000" y="2209680"/>
            <a:ext cx="326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foodSpace eatX: xPos Y: yPo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1240" y="3124080"/>
            <a:ext cx="367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self putValue: 0 atX: x Y: 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 scheduleGrowthAtX: x Y: 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70" idx="4"/>
            <a:endCxn id="269" idx="0"/>
          </p:cNvCxnSpPr>
          <p:nvPr/>
        </p:nvCxnSpPr>
        <p:spPr>
          <a:xfrm>
            <a:off x="8210520" y="2704680"/>
            <a:ext cx="7200" cy="343800"/>
          </a:xfrm>
          <a:prstGeom prst="straightConnector1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78" name=""/>
          <p:cNvCxnSpPr>
            <a:stCxn id="269" idx="2"/>
            <a:endCxn id="271" idx="0"/>
          </p:cNvCxnSpPr>
          <p:nvPr/>
        </p:nvCxnSpPr>
        <p:spPr>
          <a:xfrm flipH="1">
            <a:off x="8039160" y="3902040"/>
            <a:ext cx="178200" cy="365760"/>
          </a:xfrm>
          <a:prstGeom prst="straightConnector1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79" name=""/>
          <p:cNvCxnSpPr>
            <a:stCxn id="272" idx="0"/>
            <a:endCxn id="269" idx="1"/>
          </p:cNvCxnSpPr>
          <p:nvPr/>
        </p:nvCxnSpPr>
        <p:spPr>
          <a:xfrm flipH="1" flipV="1" rot="5400000">
            <a:off x="6550560" y="4035960"/>
            <a:ext cx="1783440" cy="660600"/>
          </a:xfrm>
          <a:prstGeom prst="bentConnector2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80" name=""/>
          <p:cNvCxnSpPr>
            <a:stCxn id="271" idx="4"/>
            <a:endCxn id="272" idx="5"/>
          </p:cNvCxnSpPr>
          <p:nvPr/>
        </p:nvCxnSpPr>
        <p:spPr>
          <a:xfrm rot="5400000">
            <a:off x="7523280" y="5437800"/>
            <a:ext cx="390960" cy="640440"/>
          </a:xfrm>
          <a:prstGeom prst="bentConnector3">
            <a:avLst>
              <a:gd name="adj1" fmla="val 159723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281" name=""/>
          <p:cNvSpPr/>
          <p:nvPr/>
        </p:nvSpPr>
        <p:spPr>
          <a:xfrm>
            <a:off x="3352680" y="4267080"/>
            <a:ext cx="3657600" cy="9907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429000" y="3048120"/>
            <a:ext cx="3581280" cy="76176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495680" y="2209680"/>
            <a:ext cx="3124440" cy="38124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1151-0ACB-49E2-8333-3F476343663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6B6410-321E-4512-807D-64F5A6067C3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chedule has to be activated in a Swarm, otherwise it will not do an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-swarms are activated in top-level Swarm and then schedules in each 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638680" y="2209680"/>
            <a:ext cx="2975040" cy="144792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7696080" y="2666880"/>
            <a:ext cx="650880" cy="657360"/>
            <a:chOff x="7696080" y="2666880"/>
            <a:chExt cx="650880" cy="657360"/>
          </a:xfrm>
        </p:grpSpPr>
        <p:sp>
          <p:nvSpPr>
            <p:cNvPr id="288" name=""/>
            <p:cNvSpPr/>
            <p:nvPr/>
          </p:nvSpPr>
          <p:spPr>
            <a:xfrm>
              <a:off x="7696080" y="2673360"/>
              <a:ext cx="650880" cy="65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011800" y="2666880"/>
              <a:ext cx="308160" cy="34128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419720" y="4038480"/>
            <a:ext cx="2501640" cy="112716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641840" y="44467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248520" y="4419720"/>
            <a:ext cx="139680" cy="1346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638680" y="44956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19920" y="4648320"/>
            <a:ext cx="13968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34120" y="4267080"/>
            <a:ext cx="137880" cy="1335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410080" y="4952880"/>
            <a:ext cx="2502000" cy="116208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715000" y="556272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324480" y="571500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010280" y="571500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95880" y="533412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629400" y="556272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754520" y="3182760"/>
            <a:ext cx="2176560" cy="10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915240" y="3182760"/>
            <a:ext cx="15840" cy="142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34120" y="4876920"/>
            <a:ext cx="7596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085880" y="4191120"/>
            <a:ext cx="162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341960" y="320040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35360" y="445788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72200" y="266688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58000" y="26668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391520" y="289548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629400" y="297180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238880" y="24382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5333760" y="4876560"/>
            <a:ext cx="14475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934320" y="51055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927840" y="511668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04600" y="5638680"/>
            <a:ext cx="215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104800" y="1828800"/>
            <a:ext cx="1616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8" name=""/>
          <p:cNvCxnSpPr>
            <a:stCxn id="306" idx="1"/>
            <a:endCxn id="291" idx="1"/>
          </p:cNvCxnSpPr>
          <p:nvPr/>
        </p:nvCxnSpPr>
        <p:spPr>
          <a:xfrm flipH="1" flipV="1" rot="10800000">
            <a:off x="4343040" y="3427920"/>
            <a:ext cx="364320" cy="1083240"/>
          </a:xfrm>
          <a:prstGeom prst="curvedConnector5">
            <a:avLst>
              <a:gd name="adj1" fmla="val -62809"/>
              <a:gd name="adj2" fmla="val 28789"/>
              <a:gd name="adj3" fmla="val -6280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D4CB-C60F-44DF-8B2E-C3710F09D3E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C69429-0450-4578-96BC-7CA29B1B862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ating Schedules &amp;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659400" y="213372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09880" y="2133720"/>
            <a:ext cx="502920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observerSwarm activateIn: nil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displaySchedule activateIn: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odelSchedule activateIn: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733920" y="4648320"/>
            <a:ext cx="5105160" cy="152388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733920" y="2590920"/>
            <a:ext cx="5105160" cy="19047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733920" y="2133720"/>
            <a:ext cx="5105160" cy="3808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066680" y="4800600"/>
            <a:ext cx="1905120" cy="99072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219320" y="5181480"/>
            <a:ext cx="139680" cy="1396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828800" y="5334120"/>
            <a:ext cx="13824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5334120"/>
            <a:ext cx="13968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600200" y="4952880"/>
            <a:ext cx="138240" cy="13824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71600" y="5334120"/>
            <a:ext cx="13824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86000" y="495288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286000" y="4952880"/>
            <a:ext cx="324000" cy="22248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066680" y="3124080"/>
            <a:ext cx="1905120" cy="99072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32767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86000" y="327672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600200" y="2057400"/>
            <a:ext cx="914400" cy="685800"/>
          </a:xfrm>
          <a:prstGeom prst="flowChartDocumen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371600" y="3352680"/>
            <a:ext cx="304920" cy="5335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53753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28800" y="3429000"/>
            <a:ext cx="304920" cy="5335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53753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"/>
          <p:cNvCxnSpPr>
            <a:stCxn id="336" idx="2"/>
            <a:endCxn id="333" idx="0"/>
          </p:cNvCxnSpPr>
          <p:nvPr/>
        </p:nvCxnSpPr>
        <p:spPr>
          <a:xfrm flipH="1">
            <a:off x="2018880" y="2705040"/>
            <a:ext cx="3888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0" name=""/>
          <p:cNvCxnSpPr>
            <a:stCxn id="333" idx="4"/>
            <a:endCxn id="325" idx="0"/>
          </p:cNvCxnSpPr>
          <p:nvPr/>
        </p:nvCxnSpPr>
        <p:spPr>
          <a:xfrm>
            <a:off x="2018880" y="411444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1" name=""/>
          <p:cNvSpPr/>
          <p:nvPr/>
        </p:nvSpPr>
        <p:spPr>
          <a:xfrm>
            <a:off x="2287080" y="40384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286720" y="57913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8282-602E-44EC-8086-3F3478285D8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577867-6ECA-4B22-825A-7210B99FDA2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rd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on Swarm libr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ion: Lists, Arrays, Sorted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: Random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sis: Graphs, Histograms and data fil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ace: Lattice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: Schedules and Activity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8254-6CA8-4E0E-8C18-298B4714DAA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A842D1-784A-4A50-84C3-65D320E3D31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Random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andom library can be divided i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ing initSwarm in main creates a default generator and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43400" y="320040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962520" y="4419720"/>
            <a:ext cx="53316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57200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63868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108040" y="41911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0" name=""/>
          <p:cNvCxnSpPr>
            <a:stCxn id="345" idx="1"/>
            <a:endCxn id="346" idx="0"/>
          </p:cNvCxnSpPr>
          <p:nvPr/>
        </p:nvCxnSpPr>
        <p:spPr>
          <a:xfrm flipV="1" rot="10800000">
            <a:off x="4228560" y="3700080"/>
            <a:ext cx="11484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1" name=""/>
          <p:cNvCxnSpPr>
            <a:stCxn id="345" idx="3"/>
            <a:endCxn id="348" idx="0"/>
          </p:cNvCxnSpPr>
          <p:nvPr/>
        </p:nvCxnSpPr>
        <p:spPr>
          <a:xfrm>
            <a:off x="5790960" y="3700440"/>
            <a:ext cx="11484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2" name=""/>
          <p:cNvSpPr/>
          <p:nvPr/>
        </p:nvSpPr>
        <p:spPr>
          <a:xfrm>
            <a:off x="6934320" y="320040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55308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162920" y="4419720"/>
            <a:ext cx="53316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22960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698600" y="41911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7" name=""/>
          <p:cNvCxnSpPr>
            <a:stCxn id="352" idx="1"/>
            <a:endCxn id="353" idx="0"/>
          </p:cNvCxnSpPr>
          <p:nvPr/>
        </p:nvCxnSpPr>
        <p:spPr>
          <a:xfrm flipV="1" rot="10800000">
            <a:off x="6819120" y="3700080"/>
            <a:ext cx="11520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8" name=""/>
          <p:cNvCxnSpPr>
            <a:stCxn id="352" idx="3"/>
            <a:endCxn id="355" idx="0"/>
          </p:cNvCxnSpPr>
          <p:nvPr/>
        </p:nvCxnSpPr>
        <p:spPr>
          <a:xfrm>
            <a:off x="8381880" y="3700440"/>
            <a:ext cx="11520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9" name=""/>
          <p:cNvSpPr/>
          <p:nvPr/>
        </p:nvSpPr>
        <p:spPr>
          <a:xfrm>
            <a:off x="5638680" y="1981080"/>
            <a:ext cx="1447920" cy="1005120"/>
          </a:xfrm>
          <a:prstGeom prst="rect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0" name=""/>
          <p:cNvCxnSpPr>
            <a:stCxn id="359" idx="1"/>
            <a:endCxn id="345" idx="0"/>
          </p:cNvCxnSpPr>
          <p:nvPr/>
        </p:nvCxnSpPr>
        <p:spPr>
          <a:xfrm flipV="1" rot="10800000">
            <a:off x="5066640" y="2483280"/>
            <a:ext cx="57204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1" name=""/>
          <p:cNvCxnSpPr>
            <a:stCxn id="359" idx="3"/>
            <a:endCxn id="352" idx="0"/>
          </p:cNvCxnSpPr>
          <p:nvPr/>
        </p:nvCxnSpPr>
        <p:spPr>
          <a:xfrm>
            <a:off x="7086600" y="2484000"/>
            <a:ext cx="57240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"/>
          <p:cNvCxnSpPr>
            <a:stCxn id="345" idx="2"/>
            <a:endCxn id="347" idx="0"/>
          </p:cNvCxnSpPr>
          <p:nvPr/>
        </p:nvCxnSpPr>
        <p:spPr>
          <a:xfrm flipH="1">
            <a:off x="4838040" y="4200120"/>
            <a:ext cx="22932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3" name=""/>
          <p:cNvCxnSpPr>
            <a:stCxn id="352" idx="2"/>
            <a:endCxn id="354" idx="0"/>
          </p:cNvCxnSpPr>
          <p:nvPr/>
        </p:nvCxnSpPr>
        <p:spPr>
          <a:xfrm flipH="1">
            <a:off x="7428960" y="4200120"/>
            <a:ext cx="22932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A1F4-02C5-4884-BB41-52A4F607731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93346D-C53A-43C6-88BE-023B5B8C42B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le of using Random li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draw random numbers from a distribution you’ll n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enerator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provide random seed - an integer number which primes the 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istributio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019920" y="251460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019920" y="403848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785480" y="2779560"/>
            <a:ext cx="9352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648320" y="5410080"/>
            <a:ext cx="38098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equence of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0" name=""/>
          <p:cNvCxnSpPr>
            <a:stCxn id="366" idx="2"/>
            <a:endCxn id="367" idx="0"/>
          </p:cNvCxnSpPr>
          <p:nvPr/>
        </p:nvCxnSpPr>
        <p:spPr>
          <a:xfrm>
            <a:off x="6743520" y="3514320"/>
            <a:ext cx="108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1" name=""/>
          <p:cNvCxnSpPr>
            <a:stCxn id="368" idx="3"/>
            <a:endCxn id="366" idx="1"/>
          </p:cNvCxnSpPr>
          <p:nvPr/>
        </p:nvCxnSpPr>
        <p:spPr>
          <a:xfrm>
            <a:off x="5726160" y="3013200"/>
            <a:ext cx="294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705720" y="5029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3C8A-8E27-4CD1-AFAB-EC349A41270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6431BC-798B-4753-B867-A8B5A51F75F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ault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calling initSwarm in main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ree default distribu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generated, fed by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ault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’t control this generator’s seed, but can give command line ar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ySeed: New seed every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wise always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419720" y="327672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T1993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324480" y="2133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24480" y="3276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24480" y="4419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75" idx="0"/>
            <a:endCxn id="376" idx="1"/>
          </p:cNvCxnSpPr>
          <p:nvPr/>
        </p:nvCxnSpPr>
        <p:spPr>
          <a:xfrm flipH="1" flipV="1" rot="5400000">
            <a:off x="5412600" y="2364840"/>
            <a:ext cx="643320" cy="1181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0" name=""/>
          <p:cNvCxnSpPr>
            <a:stCxn id="375" idx="0"/>
            <a:endCxn id="377" idx="1"/>
          </p:cNvCxnSpPr>
          <p:nvPr/>
        </p:nvCxnSpPr>
        <p:spPr>
          <a:xfrm flipH="1" rot="16200000">
            <a:off x="5483880" y="2935080"/>
            <a:ext cx="500760" cy="1181520"/>
          </a:xfrm>
          <a:prstGeom prst="bentConnector4">
            <a:avLst>
              <a:gd name="adj1" fmla="val -45683"/>
              <a:gd name="adj2" fmla="val 806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1" name=""/>
          <p:cNvCxnSpPr>
            <a:stCxn id="375" idx="0"/>
            <a:endCxn id="378" idx="1"/>
          </p:cNvCxnSpPr>
          <p:nvPr/>
        </p:nvCxnSpPr>
        <p:spPr>
          <a:xfrm flipH="1" rot="16200000">
            <a:off x="4912560" y="3507480"/>
            <a:ext cx="1643760" cy="1181520"/>
          </a:xfrm>
          <a:prstGeom prst="bentConnector4">
            <a:avLst>
              <a:gd name="adj1" fmla="val -13910"/>
              <a:gd name="adj2" fmla="val 806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C578-9664-4F07-9053-D5ABFD8531F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478ADF-8011-4DC0-B849-295A5936E50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the default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ault distributions are glob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call any distribution from any ag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ld feed own distribution from gene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double in interval [minVal,maxVal]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uniformDblRand getDoubleWithMin: minVal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withMax: maxVal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 integer in interval [minVal,maxVal]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uniformIntegerRand getDoubleWithMin: minVal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withMax:maxVal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9020-833C-4EB0-B4FB-8189F4749E1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0CD79A-35A4-4D16-8B40-19BDFBA475E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6477120" y="2411280"/>
            <a:ext cx="1828800" cy="457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andom Number Gen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rs can’t create real random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generators represent a large number of studies of pseudo RN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 of thumb: Choose well tested generator which has a long peri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800600" y="2487240"/>
            <a:ext cx="17524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LCG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MRG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TA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3MW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4LCG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708600" y="2438280"/>
            <a:ext cx="1500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T199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W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W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MML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W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WC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GFS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76920" y="2057400"/>
            <a:ext cx="3047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802040" y="1981080"/>
            <a:ext cx="390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s in Swarm lib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F5DE-81CF-41E1-9BB1-1C147A347153}" type="slidenum">
              <a:t>2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363867-8474-4858-B487-3C3CBEEC472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4953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need setGene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and paramet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Bernoull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Probability: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pon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Normal/Log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Variance, set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Gam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Alpha, setB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9140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rnoulli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nenti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mma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Norm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rm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Bit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Double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Integer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Unsigned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C7C3-D0ED-4B92-A35D-4F2358CB98BC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D62E3D-7517-4E36-81A3-82235317ADB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Probe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371600" y="31240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562720" y="3276720"/>
            <a:ext cx="1454040" cy="10094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5627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1629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9625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28600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335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429000" y="2057400"/>
            <a:ext cx="1454040" cy="1006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3" name=""/>
          <p:cNvCxnSpPr>
            <a:stCxn id="402" idx="1"/>
            <a:endCxn id="395" idx="0"/>
          </p:cNvCxnSpPr>
          <p:nvPr/>
        </p:nvCxnSpPr>
        <p:spPr>
          <a:xfrm flipV="1" rot="10800000">
            <a:off x="2098080" y="2559600"/>
            <a:ext cx="133092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4" name=""/>
          <p:cNvCxnSpPr>
            <a:stCxn id="402" idx="3"/>
            <a:endCxn id="396" idx="0"/>
          </p:cNvCxnSpPr>
          <p:nvPr/>
        </p:nvCxnSpPr>
        <p:spPr>
          <a:xfrm>
            <a:off x="4882680" y="2560320"/>
            <a:ext cx="140724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5" name=""/>
          <p:cNvCxnSpPr>
            <a:stCxn id="395" idx="1"/>
            <a:endCxn id="401" idx="0"/>
          </p:cNvCxnSpPr>
          <p:nvPr/>
        </p:nvCxnSpPr>
        <p:spPr>
          <a:xfrm flipV="1" rot="10800000">
            <a:off x="1259640" y="3628080"/>
            <a:ext cx="111960" cy="867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6" name=""/>
          <p:cNvCxnSpPr>
            <a:stCxn id="395" idx="3"/>
            <a:endCxn id="400" idx="0"/>
          </p:cNvCxnSpPr>
          <p:nvPr/>
        </p:nvCxnSpPr>
        <p:spPr>
          <a:xfrm>
            <a:off x="2825280" y="3628800"/>
            <a:ext cx="188280" cy="867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7" name=""/>
          <p:cNvCxnSpPr>
            <a:stCxn id="396" idx="1"/>
            <a:endCxn id="399" idx="0"/>
          </p:cNvCxnSpPr>
          <p:nvPr/>
        </p:nvCxnSpPr>
        <p:spPr>
          <a:xfrm flipV="1" rot="10800000">
            <a:off x="4688640" y="3781080"/>
            <a:ext cx="874080" cy="71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8" name=""/>
          <p:cNvCxnSpPr>
            <a:stCxn id="396" idx="3"/>
            <a:endCxn id="398" idx="0"/>
          </p:cNvCxnSpPr>
          <p:nvPr/>
        </p:nvCxnSpPr>
        <p:spPr>
          <a:xfrm>
            <a:off x="7016400" y="3781440"/>
            <a:ext cx="873720" cy="71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9" name=""/>
          <p:cNvCxnSpPr>
            <a:stCxn id="396" idx="2"/>
            <a:endCxn id="397" idx="0"/>
          </p:cNvCxnSpPr>
          <p:nvPr/>
        </p:nvCxnSpPr>
        <p:spPr>
          <a:xfrm flipV="1" rot="10800000">
            <a:off x="6288840" y="4285800"/>
            <a:ext cx="1080" cy="210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0" name=""/>
          <p:cNvSpPr/>
          <p:nvPr/>
        </p:nvSpPr>
        <p:spPr>
          <a:xfrm>
            <a:off x="7010280" y="1981080"/>
            <a:ext cx="145440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634E-363F-42CD-A478-4964DFAFA1E1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D38501-E399-43CF-9863-7B97F2A4D2C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major uses for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nterface with an ob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reate a GUI to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with an object of two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bes an 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:    Probes a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I util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llection of Var and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C5A1-6704-414C-A146-A03766A244D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509195-1569-4BCD-AAF7-95DAEE27D61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phical probes to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instance of EmtpyProbeM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h VarProbe or MessageProbe to each variable or message to appear on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each probe on the Empty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DisplayManager  asked to create 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257800" y="5105520"/>
            <a:ext cx="2895480" cy="99036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1055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724280" y="3581280"/>
            <a:ext cx="990720" cy="990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105520" y="29718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095880" y="38862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715000" y="3352680"/>
            <a:ext cx="990720" cy="990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10080" y="2895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963960" y="464832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1629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81680" y="3276720"/>
            <a:ext cx="990720" cy="99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943600" y="29718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876920" y="2209680"/>
            <a:ext cx="190476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029200" y="24382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952880" y="3124080"/>
            <a:ext cx="16765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867280" y="228600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0292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867280" y="266688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858360" y="21337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3" name=""/>
          <p:cNvCxnSpPr>
            <a:stCxn id="422" idx="0"/>
            <a:endCxn id="417" idx="2"/>
          </p:cNvCxnSpPr>
          <p:nvPr/>
        </p:nvCxnSpPr>
        <p:spPr>
          <a:xfrm flipH="1" flipV="1" rot="5400000">
            <a:off x="4425480" y="4349520"/>
            <a:ext cx="572400" cy="25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22" idx="2"/>
            <a:endCxn id="420" idx="4"/>
          </p:cNvCxnSpPr>
          <p:nvPr/>
        </p:nvCxnSpPr>
        <p:spPr>
          <a:xfrm flipH="1" flipV="1" rot="5400000">
            <a:off x="5073480" y="3968280"/>
            <a:ext cx="762840" cy="1512000"/>
          </a:xfrm>
          <a:prstGeom prst="curvedConnector5">
            <a:avLst>
              <a:gd name="adj1" fmla="val -29981"/>
              <a:gd name="adj2" fmla="val 49988"/>
              <a:gd name="adj3" fmla="val -299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5" name=""/>
          <p:cNvCxnSpPr>
            <a:stCxn id="432" idx="2"/>
            <a:endCxn id="424" idx="7"/>
          </p:cNvCxnSpPr>
          <p:nvPr/>
        </p:nvCxnSpPr>
        <p:spPr>
          <a:xfrm rot="5400000">
            <a:off x="7317720" y="2900520"/>
            <a:ext cx="830880" cy="211680"/>
          </a:xfrm>
          <a:prstGeom prst="curvedConnector5">
            <a:avLst>
              <a:gd name="adj1" fmla="val 41265"/>
              <a:gd name="adj2" fmla="val 49914"/>
              <a:gd name="adj3" fmla="val 412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4192200" y="198108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9675-7DC5-47AB-B894-7138269DB4D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0EDE5A-487F-4322-A000-C0D4BB31A06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de for previous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=[EmptyProbeMap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setProbedClass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=[probeMa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ProbeForVariable: ”someVar"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Class: [agent class]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 getProbeForMessage: ”someMessage"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nClass: [agent class]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HideResult: 1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Library setProbeMap: probeM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DisplayManager createProbeDisplayFor: modelSwarm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09480" y="1600200"/>
            <a:ext cx="8001000" cy="40384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9480" y="5715000"/>
            <a:ext cx="8001000" cy="5335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37AD-8F3E-4E2D-9355-8CE05033A5C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07DC72-B6EB-4248-949B-0AF9ECDE2F6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ibra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5486400"/>
            <a:ext cx="839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It is actually impossible to draw the class hierarchy because some of the lib directories contain classes from different bran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724280" y="1752480"/>
            <a:ext cx="1316160" cy="911520"/>
          </a:xfrm>
          <a:prstGeom prst="rect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4572000"/>
            <a:ext cx="1316160" cy="911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52480" y="4572000"/>
            <a:ext cx="1316160" cy="915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562720" y="3048120"/>
            <a:ext cx="1315800" cy="9111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4572000"/>
            <a:ext cx="1316160" cy="9111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391520" y="4572000"/>
            <a:ext cx="1315800" cy="911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4572000"/>
            <a:ext cx="1316160" cy="90792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3048120"/>
            <a:ext cx="1315800" cy="911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91520" y="3048120"/>
            <a:ext cx="1315800" cy="911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47" idx="3"/>
            <a:endCxn id="55" idx="0"/>
          </p:cNvCxnSpPr>
          <p:nvPr/>
        </p:nvCxnSpPr>
        <p:spPr>
          <a:xfrm>
            <a:off x="6040080" y="2207880"/>
            <a:ext cx="2010600" cy="840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1371600" y="1752480"/>
            <a:ext cx="1316160" cy="91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"/>
          <p:cNvCxnSpPr>
            <a:stCxn id="47" idx="1"/>
            <a:endCxn id="57" idx="3"/>
          </p:cNvCxnSpPr>
          <p:nvPr/>
        </p:nvCxnSpPr>
        <p:spPr>
          <a:xfrm rot="10800000">
            <a:off x="2687040" y="2207520"/>
            <a:ext cx="20372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5" idx="2"/>
            <a:endCxn id="52" idx="0"/>
          </p:cNvCxnSpPr>
          <p:nvPr/>
        </p:nvCxnSpPr>
        <p:spPr>
          <a:xfrm>
            <a:off x="8049960" y="3959280"/>
            <a:ext cx="1080" cy="61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4" idx="2"/>
            <a:endCxn id="51" idx="0"/>
          </p:cNvCxnSpPr>
          <p:nvPr/>
        </p:nvCxnSpPr>
        <p:spPr>
          <a:xfrm rot="5400000">
            <a:off x="2409120" y="2589120"/>
            <a:ext cx="613440" cy="33537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4" idx="2"/>
            <a:endCxn id="53" idx="0"/>
          </p:cNvCxnSpPr>
          <p:nvPr/>
        </p:nvCxnSpPr>
        <p:spPr>
          <a:xfrm flipH="1" rot="16200000">
            <a:off x="4467240" y="3884400"/>
            <a:ext cx="613440" cy="76248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4" idx="2"/>
            <a:endCxn id="49" idx="0"/>
          </p:cNvCxnSpPr>
          <p:nvPr/>
        </p:nvCxnSpPr>
        <p:spPr>
          <a:xfrm rot="5400000">
            <a:off x="3094920" y="3274920"/>
            <a:ext cx="613440" cy="19821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4" idx="2"/>
            <a:endCxn id="48" idx="0"/>
          </p:cNvCxnSpPr>
          <p:nvPr/>
        </p:nvCxnSpPr>
        <p:spPr>
          <a:xfrm rot="5400000">
            <a:off x="3780720" y="3960720"/>
            <a:ext cx="613440" cy="6105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47" idx="2"/>
            <a:endCxn id="54" idx="0"/>
          </p:cNvCxnSpPr>
          <p:nvPr/>
        </p:nvCxnSpPr>
        <p:spPr>
          <a:xfrm rot="5400000">
            <a:off x="4695120" y="2360520"/>
            <a:ext cx="384840" cy="99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47" idx="2"/>
            <a:endCxn id="50" idx="0"/>
          </p:cNvCxnSpPr>
          <p:nvPr/>
        </p:nvCxnSpPr>
        <p:spPr>
          <a:xfrm flipH="1" rot="16200000">
            <a:off x="5609160" y="2436480"/>
            <a:ext cx="384840" cy="839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5867280" y="4572000"/>
            <a:ext cx="1316160" cy="9097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54" idx="2"/>
            <a:endCxn id="66" idx="0"/>
          </p:cNvCxnSpPr>
          <p:nvPr/>
        </p:nvCxnSpPr>
        <p:spPr>
          <a:xfrm flipH="1" rot="16200000">
            <a:off x="5153040" y="3198600"/>
            <a:ext cx="613440" cy="213408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533520" y="3048120"/>
            <a:ext cx="1315800" cy="911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Obj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09680" y="3048120"/>
            <a:ext cx="1316160" cy="911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wtObj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" name=""/>
          <p:cNvCxnSpPr>
            <a:stCxn id="57" idx="2"/>
            <a:endCxn id="68" idx="0"/>
          </p:cNvCxnSpPr>
          <p:nvPr/>
        </p:nvCxnSpPr>
        <p:spPr>
          <a:xfrm rot="5400000">
            <a:off x="1418760" y="2436840"/>
            <a:ext cx="384840" cy="838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57" idx="2"/>
            <a:endCxn id="69" idx="0"/>
          </p:cNvCxnSpPr>
          <p:nvPr/>
        </p:nvCxnSpPr>
        <p:spPr>
          <a:xfrm flipH="1" rot="16200000">
            <a:off x="2257200" y="2436480"/>
            <a:ext cx="384840" cy="838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E027-8270-4BC1-B048-5EAE632447B6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487EB6-1803-411C-8C42-04DFCA8D232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uses for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of dynamic message calling where message is chosen at runtim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Probe=[MessageProb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theProbe setProbedSelector: theSelector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Probe=[theProbe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nIndex=[aCollection 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((aMember=[anIndex next])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Data=[theProbe doubleDynamicCallOn: aMember]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elf doSomething: theData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nIndex dro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47640" y="3048120"/>
            <a:ext cx="533520" cy="533160"/>
          </a:xfrm>
          <a:custGeom>
            <a:avLst/>
            <a:gdLst>
              <a:gd name="textAreaLeft" fmla="*/ 121680 w 533520"/>
              <a:gd name="textAreaRight" fmla="*/ 411840 w 53352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47640" y="4191120"/>
            <a:ext cx="533520" cy="533160"/>
          </a:xfrm>
          <a:custGeom>
            <a:avLst/>
            <a:gdLst>
              <a:gd name="textAreaLeft" fmla="*/ 121680 w 533520"/>
              <a:gd name="textAreaRight" fmla="*/ 411840 w 53352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206D-A620-4DCE-A51E-72B75C3E9D0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7CA3DD-C62F-4D54-B754-823DBFD1355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Analysis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Z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bines several objects to gather and display data on line 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ZB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 same for hist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r,Entropy and EZ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 statistics from collection of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4591080" y="2038320"/>
            <a:ext cx="4124160" cy="3543120"/>
            <a:chOff x="4591080" y="2038320"/>
            <a:chExt cx="4124160" cy="3543120"/>
          </a:xfrm>
        </p:grpSpPr>
        <p:sp>
          <p:nvSpPr>
            <p:cNvPr id="448" name=""/>
            <p:cNvSpPr/>
            <p:nvPr/>
          </p:nvSpPr>
          <p:spPr>
            <a:xfrm>
              <a:off x="5281560" y="3975120"/>
              <a:ext cx="1052640" cy="671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vera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591080" y="2908080"/>
              <a:ext cx="1052280" cy="671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ZGrap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431040" y="3975120"/>
              <a:ext cx="1050840" cy="672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ZB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529240" y="2038320"/>
              <a:ext cx="1052280" cy="669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bjectb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662600" y="3970080"/>
              <a:ext cx="1052640" cy="6699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ntrop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431040" y="4908240"/>
              <a:ext cx="1050840" cy="673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strib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419880" y="2869920"/>
              <a:ext cx="1052280" cy="67176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54" idx="2"/>
              <a:endCxn id="448" idx="0"/>
            </p:cNvCxnSpPr>
            <p:nvPr/>
          </p:nvCxnSpPr>
          <p:spPr>
            <a:xfrm rot="5400000">
              <a:off x="6160320" y="3189240"/>
              <a:ext cx="434160" cy="1139040"/>
            </a:xfrm>
            <a:prstGeom prst="bentConnector3">
              <a:avLst>
                <a:gd name="adj1" fmla="val 49792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54" idx="2"/>
              <a:endCxn id="452" idx="0"/>
            </p:cNvCxnSpPr>
            <p:nvPr/>
          </p:nvCxnSpPr>
          <p:spPr>
            <a:xfrm flipH="1" rot="16200000">
              <a:off x="7353360" y="3134160"/>
              <a:ext cx="429120" cy="1243800"/>
            </a:xfrm>
            <a:prstGeom prst="bentConnector3">
              <a:avLst>
                <a:gd name="adj1" fmla="val 4995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4" idx="2"/>
              <a:endCxn id="450" idx="0"/>
            </p:cNvCxnSpPr>
            <p:nvPr/>
          </p:nvCxnSpPr>
          <p:spPr>
            <a:xfrm>
              <a:off x="6946920" y="3541680"/>
              <a:ext cx="10080" cy="43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8" name=""/>
            <p:cNvCxnSpPr>
              <a:stCxn id="450" idx="2"/>
              <a:endCxn id="453" idx="0"/>
            </p:cNvCxnSpPr>
            <p:nvPr/>
          </p:nvCxnSpPr>
          <p:spPr>
            <a:xfrm>
              <a:off x="6955920" y="4647600"/>
              <a:ext cx="1080" cy="261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9" name=""/>
            <p:cNvCxnSpPr>
              <a:stCxn id="451" idx="1"/>
              <a:endCxn id="449" idx="0"/>
            </p:cNvCxnSpPr>
            <p:nvPr/>
          </p:nvCxnSpPr>
          <p:spPr>
            <a:xfrm flipV="1" rot="10800000">
              <a:off x="5117400" y="2372760"/>
              <a:ext cx="411840" cy="535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60" name=""/>
            <p:cNvCxnSpPr>
              <a:stCxn id="451" idx="3"/>
              <a:endCxn id="454" idx="0"/>
            </p:cNvCxnSpPr>
            <p:nvPr/>
          </p:nvCxnSpPr>
          <p:spPr>
            <a:xfrm>
              <a:off x="6581160" y="2373120"/>
              <a:ext cx="366120" cy="497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6908-1E73-450A-BA35-D0F5E3BAF39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F5C1B2-84D3-4B3F-82E0-F2565DD80BF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EZ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Graph is a wrapper around several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creation and setup to be achieved in one fell swo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setting title and labels must add one or more sequ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cessary ste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create a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setTitle: title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setAxisLabelsX: str Y: s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Add sequence(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feed from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feed from collec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verageSequence TotalSequ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nSequence MaxSequ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419C-7676-45BA-A125-6C883C8F67C6}" type="slidenum">
              <a:t>3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A01C4E-CDDA-4B41-A878-0CAD0BEDACA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EZ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5" name="ezgraph" descr=""/>
          <p:cNvPicPr/>
          <p:nvPr/>
        </p:nvPicPr>
        <p:blipFill>
          <a:blip r:embed="rId1"/>
          <a:stretch/>
        </p:blipFill>
        <p:spPr>
          <a:xfrm>
            <a:off x="663480" y="1895400"/>
            <a:ext cx="3886200" cy="261000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3884760" y="3203640"/>
            <a:ext cx="4398840" cy="2471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quence with feed from collection is created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crea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quenc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ithFeedFrom: 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ndSelector: M(metho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one of Average, Total, Min, Max or 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651720" y="3921120"/>
            <a:ext cx="12510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8" name=""/>
          <p:cNvCxnSpPr/>
          <p:nvPr/>
        </p:nvCxnSpPr>
        <p:spPr>
          <a:xfrm flipV="1" rot="16200000">
            <a:off x="5421240" y="1740600"/>
            <a:ext cx="1197360" cy="3162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9" name=""/>
          <p:cNvCxnSpPr>
            <a:stCxn id="466" idx="1"/>
          </p:cNvCxnSpPr>
          <p:nvPr/>
        </p:nvCxnSpPr>
        <p:spPr>
          <a:xfrm rot="10800000">
            <a:off x="2733120" y="3714120"/>
            <a:ext cx="1151640" cy="727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0" name=""/>
          <p:cNvCxnSpPr/>
          <p:nvPr/>
        </p:nvCxnSpPr>
        <p:spPr>
          <a:xfrm flipV="1" rot="10800000">
            <a:off x="2380680" y="2160360"/>
            <a:ext cx="2286720" cy="2069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1" name=""/>
          <p:cNvSpPr/>
          <p:nvPr/>
        </p:nvSpPr>
        <p:spPr>
          <a:xfrm>
            <a:off x="771480" y="4842000"/>
            <a:ext cx="2923920" cy="764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itle, made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Titl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2" name=""/>
          <p:cNvCxnSpPr>
            <a:stCxn id="471" idx="0"/>
          </p:cNvCxnSpPr>
          <p:nvPr/>
        </p:nvCxnSpPr>
        <p:spPr>
          <a:xfrm flipV="1" rot="16200000">
            <a:off x="581040" y="3189600"/>
            <a:ext cx="2537640" cy="767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3" name=""/>
          <p:cNvSpPr/>
          <p:nvPr/>
        </p:nvSpPr>
        <p:spPr>
          <a:xfrm>
            <a:off x="4197600" y="1774800"/>
            <a:ext cx="4295520" cy="76464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xis labels, set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AxisLabelsX: str Y: s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AFB8-0243-4993-8C72-1AF979B69D36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92E28D-C0F7-458C-9696-0E30FE75329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EZB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6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Bin, is also a wrapper around several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type of graph needs to be told the number of bins for histogram and interval in which values l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381560" y="1981080"/>
            <a:ext cx="428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cessary ste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create a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setTitle: title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setCollection: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setProbedSelector:M(metho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) setBinNum: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) setUpperBound:  and setLowerBou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8606-3C66-4E71-92BB-488B8FF743E1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9A9A94-B358-4047-B0FD-9436C0BAFA8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EZB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ezbin" descr=""/>
          <p:cNvPicPr/>
          <p:nvPr/>
        </p:nvPicPr>
        <p:blipFill>
          <a:blip r:embed="rId1"/>
          <a:stretch/>
        </p:blipFill>
        <p:spPr>
          <a:xfrm>
            <a:off x="552600" y="1957320"/>
            <a:ext cx="3886200" cy="263844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3846600" y="4842000"/>
            <a:ext cx="4551120" cy="1435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is fed into Histogram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Collection: 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ProbedSelector:M(metho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71480" y="4842000"/>
            <a:ext cx="2923920" cy="764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itle, made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Titl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1" name=""/>
          <p:cNvCxnSpPr>
            <a:stCxn id="480" idx="0"/>
          </p:cNvCxnSpPr>
          <p:nvPr/>
        </p:nvCxnSpPr>
        <p:spPr>
          <a:xfrm flipV="1" rot="16200000">
            <a:off x="581040" y="3189600"/>
            <a:ext cx="2537640" cy="767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2" name=""/>
          <p:cNvSpPr/>
          <p:nvPr/>
        </p:nvSpPr>
        <p:spPr>
          <a:xfrm>
            <a:off x="3816360" y="3984480"/>
            <a:ext cx="4295520" cy="76464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xis labels, set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AxisLabelsX: str Y: s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3" name=""/>
          <p:cNvCxnSpPr>
            <a:stCxn id="482" idx="1"/>
          </p:cNvCxnSpPr>
          <p:nvPr/>
        </p:nvCxnSpPr>
        <p:spPr>
          <a:xfrm flipV="1" rot="10800000">
            <a:off x="2552040" y="4370040"/>
            <a:ext cx="1257840" cy="7848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4" name=""/>
          <p:cNvSpPr/>
          <p:nvPr/>
        </p:nvSpPr>
        <p:spPr>
          <a:xfrm>
            <a:off x="3813120" y="2308320"/>
            <a:ext cx="4929480" cy="1435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umber of bins is determined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NumBins: 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 range of values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UpperBound: -setLowerBoun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5" name=""/>
          <p:cNvCxnSpPr>
            <a:stCxn id="484" idx="1"/>
          </p:cNvCxnSpPr>
          <p:nvPr/>
        </p:nvCxnSpPr>
        <p:spPr>
          <a:xfrm flipV="1" rot="10800000">
            <a:off x="2628360" y="3027960"/>
            <a:ext cx="118476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8BDE-FD2C-4193-8305-4D40330D98D8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0E5264-0AA0-4698-9EB4-F8829E54E2A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utility objects in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s feed from collection and calcula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4953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ro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s feed from collection and calculates entropy assuming data is prob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class of EZBin, gives acces to underlying distribution of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8194-6C36-4125-98BC-EF8CEA77A57B}" type="slidenum">
              <a:t>3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7DCB27-1856-4137-B2E3-26D310FCA5D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4952880" y="1828800"/>
            <a:ext cx="35053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57200" y="1828800"/>
            <a:ext cx="41148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ster and Object2dDispl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33520" y="2209680"/>
            <a:ext cx="1676160" cy="1752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181480" y="1981080"/>
            <a:ext cx="1752840" cy="15242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ret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600200" y="31240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914400" y="2438280"/>
            <a:ext cx="304920" cy="304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6" name=""/>
          <p:cNvCxnSpPr>
            <a:stCxn id="493" idx="1"/>
            <a:endCxn id="497" idx="5"/>
          </p:cNvCxnSpPr>
          <p:nvPr/>
        </p:nvCxnSpPr>
        <p:spPr>
          <a:xfrm flipV="1" rot="10800000">
            <a:off x="4237920" y="2742840"/>
            <a:ext cx="943560" cy="658080"/>
          </a:xfrm>
          <a:prstGeom prst="bentConnector4">
            <a:avLst>
              <a:gd name="adj1" fmla="val 36335"/>
              <a:gd name="adj2" fmla="val 173891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498" name=""/>
          <p:cNvSpPr/>
          <p:nvPr/>
        </p:nvSpPr>
        <p:spPr>
          <a:xfrm>
            <a:off x="841320" y="3429000"/>
            <a:ext cx="11286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629400" y="3249720"/>
            <a:ext cx="1671480" cy="1191240"/>
          </a:xfrm>
          <a:prstGeom prst="borderCallout1">
            <a:avLst>
              <a:gd name="adj1" fmla="val 18750"/>
              <a:gd name="adj2" fmla="val -8333"/>
              <a:gd name="adj3" fmla="val -33712"/>
              <a:gd name="adj4" fmla="val -2771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s of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743200" y="1905120"/>
            <a:ext cx="1752480" cy="1752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819520" y="3733920"/>
            <a:ext cx="1371600" cy="1371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953600" y="472428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34240" y="47242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65040" y="5272200"/>
            <a:ext cx="832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in purpose of Object2dDisplay to catch messages from Raster widget on a mouse-click. It then opens up a probe to the object that at this  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4" name=""/>
          <p:cNvCxnSpPr>
            <a:stCxn id="497" idx="2"/>
            <a:endCxn id="492" idx="3"/>
          </p:cNvCxnSpPr>
          <p:nvPr/>
        </p:nvCxnSpPr>
        <p:spPr>
          <a:xfrm flipV="1" rot="10800000">
            <a:off x="2208960" y="2780280"/>
            <a:ext cx="534240" cy="305640"/>
          </a:xfrm>
          <a:prstGeom prst="bentConnector3">
            <a:avLst>
              <a:gd name="adj1" fmla="val 49966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505" name=""/>
          <p:cNvCxnSpPr>
            <a:stCxn id="500" idx="2"/>
            <a:endCxn id="492" idx="2"/>
          </p:cNvCxnSpPr>
          <p:nvPr/>
        </p:nvCxnSpPr>
        <p:spPr>
          <a:xfrm rot="10800000">
            <a:off x="1370880" y="3961800"/>
            <a:ext cx="1448640" cy="457920"/>
          </a:xfrm>
          <a:prstGeom prst="bentConnector2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506" name=""/>
          <p:cNvSpPr/>
          <p:nvPr/>
        </p:nvSpPr>
        <p:spPr>
          <a:xfrm>
            <a:off x="5410080" y="3048120"/>
            <a:ext cx="990720" cy="9144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1AB1-8CB1-48A2-A2B9-8AB247D1A954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906989-C3ED-4715-91A7-B61B65BAE90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07" name=""/>
          <p:cNvCxnSpPr>
            <a:stCxn id="508" idx="3"/>
            <a:endCxn id="509" idx="2"/>
          </p:cNvCxnSpPr>
          <p:nvPr/>
        </p:nvCxnSpPr>
        <p:spPr>
          <a:xfrm flipV="1">
            <a:off x="4723920" y="2437920"/>
            <a:ext cx="724680" cy="534240"/>
          </a:xfrm>
          <a:prstGeom prst="curvedConnector2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cxnSp>
        <p:nvCxnSpPr>
          <p:cNvPr id="510" name=""/>
          <p:cNvCxnSpPr>
            <a:stCxn id="508" idx="3"/>
            <a:endCxn id="511" idx="2"/>
          </p:cNvCxnSpPr>
          <p:nvPr/>
        </p:nvCxnSpPr>
        <p:spPr>
          <a:xfrm flipV="1">
            <a:off x="4724280" y="2437920"/>
            <a:ext cx="2020320" cy="534240"/>
          </a:xfrm>
          <a:prstGeom prst="curvedConnector2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lasses in 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581280" y="16765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58128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819520" y="35053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bl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267080" y="35053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133720" y="44197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505320" y="44197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505320" y="53341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876920" y="16765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172200" y="16765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286000" y="16765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"/>
          <p:cNvCxnSpPr>
            <a:stCxn id="513" idx="2"/>
            <a:endCxn id="508" idx="0"/>
          </p:cNvCxnSpPr>
          <p:nvPr/>
        </p:nvCxnSpPr>
        <p:spPr>
          <a:xfrm flipV="1" rot="10800000">
            <a:off x="4152240" y="2437920"/>
            <a:ext cx="1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508" idx="1"/>
            <a:endCxn id="514" idx="0"/>
          </p:cNvCxnSpPr>
          <p:nvPr/>
        </p:nvCxnSpPr>
        <p:spPr>
          <a:xfrm flipV="1" rot="10800000">
            <a:off x="3390120" y="2971440"/>
            <a:ext cx="19116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2" name=""/>
          <p:cNvCxnSpPr>
            <a:stCxn id="508" idx="3"/>
            <a:endCxn id="515" idx="0"/>
          </p:cNvCxnSpPr>
          <p:nvPr/>
        </p:nvCxnSpPr>
        <p:spPr>
          <a:xfrm>
            <a:off x="4724280" y="2971800"/>
            <a:ext cx="11520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3" name=""/>
          <p:cNvCxnSpPr>
            <a:stCxn id="514" idx="1"/>
            <a:endCxn id="516" idx="0"/>
          </p:cNvCxnSpPr>
          <p:nvPr/>
        </p:nvCxnSpPr>
        <p:spPr>
          <a:xfrm flipV="1" rot="10800000">
            <a:off x="2704320" y="3885840"/>
            <a:ext cx="11520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4" name=""/>
          <p:cNvCxnSpPr>
            <a:stCxn id="514" idx="3"/>
            <a:endCxn id="517" idx="0"/>
          </p:cNvCxnSpPr>
          <p:nvPr/>
        </p:nvCxnSpPr>
        <p:spPr>
          <a:xfrm>
            <a:off x="3962160" y="3886200"/>
            <a:ext cx="11484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"/>
          <p:cNvCxnSpPr>
            <a:stCxn id="517" idx="2"/>
            <a:endCxn id="518" idx="0"/>
          </p:cNvCxnSpPr>
          <p:nvPr/>
        </p:nvCxnSpPr>
        <p:spPr>
          <a:xfrm>
            <a:off x="4076280" y="5181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5FFF-5EA9-411C-9217-890C45A1F89C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2675D4-454D-4114-9A55-4975658FBC4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26" name=""/>
          <p:cNvCxnSpPr>
            <a:stCxn id="527" idx="3"/>
            <a:endCxn id="528" idx="2"/>
          </p:cNvCxnSpPr>
          <p:nvPr/>
        </p:nvCxnSpPr>
        <p:spPr>
          <a:xfrm flipV="1">
            <a:off x="6326280" y="2569320"/>
            <a:ext cx="488160" cy="361080"/>
          </a:xfrm>
          <a:prstGeom prst="curvedConnector2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cxnSp>
        <p:nvCxnSpPr>
          <p:cNvPr id="529" name=""/>
          <p:cNvCxnSpPr>
            <a:stCxn id="527" idx="3"/>
            <a:endCxn id="530" idx="2"/>
          </p:cNvCxnSpPr>
          <p:nvPr/>
        </p:nvCxnSpPr>
        <p:spPr>
          <a:xfrm flipV="1">
            <a:off x="6326280" y="2569320"/>
            <a:ext cx="1365840" cy="361080"/>
          </a:xfrm>
          <a:prstGeom prst="curvedConnector2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531" name=""/>
          <p:cNvSpPr/>
          <p:nvPr/>
        </p:nvSpPr>
        <p:spPr>
          <a:xfrm>
            <a:off x="5551560" y="2057400"/>
            <a:ext cx="774720" cy="5126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551560" y="2670120"/>
            <a:ext cx="774720" cy="515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cre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035680" y="3287880"/>
            <a:ext cx="772920" cy="510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bl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014880" y="3287880"/>
            <a:ext cx="771840" cy="510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572000" y="3900600"/>
            <a:ext cx="773280" cy="515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500800" y="3900600"/>
            <a:ext cx="771480" cy="515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500800" y="4516560"/>
            <a:ext cx="77148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427800" y="2057400"/>
            <a:ext cx="77328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304040" y="2057400"/>
            <a:ext cx="77328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673520" y="2057400"/>
            <a:ext cx="77472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"/>
          <p:cNvCxnSpPr>
            <a:stCxn id="531" idx="2"/>
            <a:endCxn id="527" idx="0"/>
          </p:cNvCxnSpPr>
          <p:nvPr/>
        </p:nvCxnSpPr>
        <p:spPr>
          <a:xfrm flipV="1" rot="10800000">
            <a:off x="5936400" y="2569680"/>
            <a:ext cx="1080" cy="100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9" name=""/>
          <p:cNvCxnSpPr>
            <a:stCxn id="527" idx="1"/>
            <a:endCxn id="532" idx="0"/>
          </p:cNvCxnSpPr>
          <p:nvPr/>
        </p:nvCxnSpPr>
        <p:spPr>
          <a:xfrm flipV="1" rot="10800000">
            <a:off x="5422320" y="2929320"/>
            <a:ext cx="129240" cy="358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0" name=""/>
          <p:cNvCxnSpPr>
            <a:stCxn id="527" idx="3"/>
            <a:endCxn id="533" idx="0"/>
          </p:cNvCxnSpPr>
          <p:nvPr/>
        </p:nvCxnSpPr>
        <p:spPr>
          <a:xfrm>
            <a:off x="6325920" y="2930040"/>
            <a:ext cx="75240" cy="358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1" name=""/>
          <p:cNvCxnSpPr>
            <a:stCxn id="532" idx="1"/>
            <a:endCxn id="534" idx="0"/>
          </p:cNvCxnSpPr>
          <p:nvPr/>
        </p:nvCxnSpPr>
        <p:spPr>
          <a:xfrm flipV="1" rot="10800000">
            <a:off x="4957200" y="3543120"/>
            <a:ext cx="78480" cy="3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2" name=""/>
          <p:cNvCxnSpPr>
            <a:stCxn id="532" idx="3"/>
            <a:endCxn id="535" idx="0"/>
          </p:cNvCxnSpPr>
          <p:nvPr/>
        </p:nvCxnSpPr>
        <p:spPr>
          <a:xfrm>
            <a:off x="5808600" y="3543480"/>
            <a:ext cx="78480" cy="3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3" name=""/>
          <p:cNvCxnSpPr>
            <a:stCxn id="535" idx="2"/>
            <a:endCxn id="536" idx="0"/>
          </p:cNvCxnSpPr>
          <p:nvPr/>
        </p:nvCxnSpPr>
        <p:spPr>
          <a:xfrm>
            <a:off x="5886000" y="4416480"/>
            <a:ext cx="1080" cy="100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asic 2d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basic 2d lattice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n’t allow you to overwrite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lBuffer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s go to a 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n updates all at o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6BC7-892A-4F6A-8B3E-04BD8FC04AE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A9F363-60EE-4CFE-B2B1-D48956F2BAB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these classes 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1752480"/>
            <a:ext cx="1490400" cy="10321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4038480"/>
            <a:ext cx="1523880" cy="10573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2895480"/>
            <a:ext cx="1523880" cy="1054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5194440"/>
            <a:ext cx="1523880" cy="1054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0" y="1676520"/>
            <a:ext cx="2133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s, ActivityGroups  and Swa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362320" y="396252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ing object’s state and behav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62320" y="2819520"/>
            <a:ext cx="205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number generators and 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0" y="510552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b bag of various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95680" y="1739880"/>
            <a:ext cx="1490760" cy="1031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95680" y="4025880"/>
            <a:ext cx="1524240" cy="1057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obj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95680" y="2882880"/>
            <a:ext cx="1524240" cy="1054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95680" y="5181480"/>
            <a:ext cx="1524240" cy="10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5880" y="1676520"/>
            <a:ext cx="2362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s, Lists and ordered Lists of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72200" y="396252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phical interface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72200" y="281952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s information for 2D lattice or gr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5880" y="510552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ier interface to graphs, calculate stat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8602-080A-4664-8D8F-A6F4F3192AE8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951A82-E96A-4A2E-8574-7BEA30E320E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basic Discrete2d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SizeX: i Y: 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the world siz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SizeX, getSiz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the dimensions of the lat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lWithValue: val, fillWithObject: 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same value or object at each si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Discrete2d: o  toFile: file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a PGM formatted file and fills lattice with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pyDiscrete2d: a toDiscrete2d: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s lattice b with values from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B4F7-08F2-4A14-AB71-E5DBAD072A30}" type="slidenum">
              <a:t>4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D051B6-5A12-4E1D-8AAB-05F5B231CE8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basic Discrete2d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ObjectAtX: Y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object at x,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ValueAtX: 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value at x,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tObject:o atX: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obj at x,y and overwrite present ob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tValue: v atX: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val v at x,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18A8-B55E-4622-A493-09F147D0A2B3}" type="slidenum">
              <a:t>4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1FEBB9-1E76-45D9-8193-374560A03A1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classes in Sim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/ Sa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s/Saves instance variable value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Sel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s N members from coll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S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ckSort for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Fil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titute for opening outfiles C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s file and understand basic operations, getString, getInt, next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EC91-A7EE-43E6-A7D7-A5452705AA5B}" type="slidenum">
              <a:t>4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895DC2-27BB-4015-9E82-3E8F0C77E4E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File and InF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idea that InFile opens file and “gets” strings and OutFile opens file and “puts”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can deal with any var type (only String and Int sh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ddition methods to insert delimiter (“tab”), skip line, go to next line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methods in In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getWord: (char *) aWor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getInt: (int *) anI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skipL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and Out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String: (char *) aStr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Int: (int) anI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Tab: (char) aCh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NewL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7D42-3AAE-41A4-A306-1C5AB8DB15BD}" type="slidenum">
              <a:t>4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5EB2CB-A4BC-4EA8-98AC-B5F718BA2E1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GUI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oomRa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izeable 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T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display of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of hist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 between integer values and col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0" name=""/>
          <p:cNvCxnSpPr>
            <a:stCxn id="561" idx="1"/>
            <a:endCxn id="562" idx="0"/>
          </p:cNvCxnSpPr>
          <p:nvPr/>
        </p:nvCxnSpPr>
        <p:spPr>
          <a:xfrm flipV="1" rot="10800000">
            <a:off x="4870440" y="2829600"/>
            <a:ext cx="621000" cy="478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3" name=""/>
          <p:cNvCxnSpPr>
            <a:stCxn id="561" idx="3"/>
            <a:endCxn id="564" idx="0"/>
          </p:cNvCxnSpPr>
          <p:nvPr/>
        </p:nvCxnSpPr>
        <p:spPr>
          <a:xfrm>
            <a:off x="6543720" y="2830320"/>
            <a:ext cx="622800" cy="478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5" name=""/>
          <p:cNvCxnSpPr>
            <a:stCxn id="561" idx="2"/>
            <a:endCxn id="566" idx="0"/>
          </p:cNvCxnSpPr>
          <p:nvPr/>
        </p:nvCxnSpPr>
        <p:spPr>
          <a:xfrm>
            <a:off x="6017760" y="316512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6" name=""/>
          <p:cNvSpPr/>
          <p:nvPr/>
        </p:nvSpPr>
        <p:spPr>
          <a:xfrm>
            <a:off x="5491080" y="3308400"/>
            <a:ext cx="1052640" cy="671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343400" y="3308400"/>
            <a:ext cx="1052640" cy="671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LT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640560" y="3308400"/>
            <a:ext cx="1050840" cy="67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s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491080" y="2495520"/>
            <a:ext cx="1052640" cy="669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dg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491080" y="4122720"/>
            <a:ext cx="1052640" cy="669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oomR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8" name=""/>
          <p:cNvCxnSpPr>
            <a:stCxn id="566" idx="2"/>
            <a:endCxn id="567" idx="0"/>
          </p:cNvCxnSpPr>
          <p:nvPr/>
        </p:nvCxnSpPr>
        <p:spPr>
          <a:xfrm>
            <a:off x="6017760" y="397944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9" name=""/>
          <p:cNvSpPr/>
          <p:nvPr/>
        </p:nvSpPr>
        <p:spPr>
          <a:xfrm>
            <a:off x="7516800" y="2489040"/>
            <a:ext cx="1050840" cy="67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10E2-CD51-422E-8FD2-73F555344093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BBD8C0-B409-4193-8DAE-74A4DFDCE8F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flat list of objects with random acce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edCol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y  is independent 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y is the member itsel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 with fixed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205740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4832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7220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012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86400" y="4419720"/>
            <a:ext cx="114300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34320" y="4419720"/>
            <a:ext cx="114300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91" idx="1"/>
            <a:endCxn id="92" idx="0"/>
          </p:cNvCxnSpPr>
          <p:nvPr/>
        </p:nvCxnSpPr>
        <p:spPr>
          <a:xfrm flipV="1" rot="10800000">
            <a:off x="5218920" y="2437200"/>
            <a:ext cx="9532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91" idx="3"/>
            <a:endCxn id="94" idx="0"/>
          </p:cNvCxnSpPr>
          <p:nvPr/>
        </p:nvCxnSpPr>
        <p:spPr>
          <a:xfrm>
            <a:off x="7315200" y="2437920"/>
            <a:ext cx="87696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1" idx="2"/>
            <a:endCxn id="93" idx="0"/>
          </p:cNvCxnSpPr>
          <p:nvPr/>
        </p:nvCxnSpPr>
        <p:spPr>
          <a:xfrm>
            <a:off x="6743520" y="28195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3" idx="2"/>
            <a:endCxn id="95" idx="0"/>
          </p:cNvCxnSpPr>
          <p:nvPr/>
        </p:nvCxnSpPr>
        <p:spPr>
          <a:xfrm rot="5400000">
            <a:off x="6133320" y="3809880"/>
            <a:ext cx="534240" cy="68652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3" idx="2"/>
            <a:endCxn id="96" idx="0"/>
          </p:cNvCxnSpPr>
          <p:nvPr/>
        </p:nvCxnSpPr>
        <p:spPr>
          <a:xfrm flipH="1" rot="16200000">
            <a:off x="6858000" y="3771720"/>
            <a:ext cx="534240" cy="7624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3125-CFDF-49CB-9B8A-5B005122CB5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38B9E9-80A0-4A74-B05B-4D1AD847500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Collection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s number of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Offset: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rieves member at location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Offset:i put: 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rts obj at location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First: o addLast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s o at start/end of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First,get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first/last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tains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1 if o is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object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Each:M(mess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s message to all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First/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and returns first/last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7692-641F-4982-8C97-30E16FB9DBBD}" type="slidenum">
              <a:t>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64F1A8-76F6-4336-9184-C77E3EF4CD9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419720" y="3200400"/>
            <a:ext cx="4267080" cy="19810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essing Collections with Ind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collection can generate an index of it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dex behaves as an object, and understands messages such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,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Next: o,findPrev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index to loop over all memb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dex=[list 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(o=[index next]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alue=[o getValu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index dro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95BD-CD73-455C-AF15-D69FBD10FFC4}" type="slidenum">
              <a:t>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3CAB6C-FE66-44CB-B199-23F176DCAFA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419720" y="2819520"/>
            <a:ext cx="4267080" cy="30477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use of L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ypical use of a List instance is to keep track of agent popul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t create time Model initializes each agent and puts him on agentLi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agentList is then accessed by Schedule, GUI objects and so on..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(i=0;i&lt;numAgents;i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=[Agent create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1: var1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2: var2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N: varN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gentList addLast: a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5AD9-31A6-451F-BC66-29A59C2D3509}" type="slidenum">
              <a:t>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D6D3CD-72EC-4B61-8804-9CD26D4BABF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eyedCol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KeyedCollection if you want a List that is continously s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either have seperate key objects for each member (Map) or treat the members as keys (S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ant: You must provide the key object your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 key object knows how to respond to a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compare: obj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ethod call. It then retrieve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he value in obj and respond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with {-1,0,1} depending 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f it is &lt;, equal to, &gt; than ob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9F29-7E94-4765-ACBE-26CDD920CD03}" type="slidenum">
              <a:t>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052875-664F-4308-B546-0EB50766B7E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2T02:00:03Z</dcterms:created>
  <dc:creator>Benedikt Stefansson</dc:creator>
  <dc:description/>
  <dc:language>en-US</dc:language>
  <cp:lastModifiedBy>Benedikt Stefansson</cp:lastModifiedBy>
  <cp:lastPrinted>1998-03-19T09:02:27Z</cp:lastPrinted>
  <dcterms:modified xsi:type="dcterms:W3CDTF">1998-03-19T09:23:50Z</dcterms:modified>
  <cp:revision>13</cp:revision>
  <dc:subject/>
  <dc:title>Agent Based Modeling in Swarm Lecture 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Documents\Benedikt\CourseMaterial\Swarmfest 1998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