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6D34-C51E-4AE8-8DA1-95305633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04E-13EF-44D8-82AA-0DD59E99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508-B353-406F-9169-17840977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F27-F2B2-48CE-9592-D7E16083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4131-C4C7-4211-8216-671F84DA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9C79-72FF-41B1-B5B9-86021779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EFE7-C5AD-4F9E-BA4B-94E6E11B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D74-9D36-429F-9FCC-5DB9443F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0AE8-F2AB-4FA7-9B61-AE04C7FF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015-C3BF-4090-9556-B072FEBA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F7F5-BE67-4AC3-AC47-1FB94ECC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6EE-5C51-4690-97C4-ED436270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244D-90F8-4657-96C0-CFA41DAF929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9175-2210-4F8B-AE92-8CC7F89AD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6F7-8F5F-4359-9284-BB3F9C301B2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24F1C-169D-4E5B-B938-3F015B94EC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214-A65E-44CE-B879-6D26E35CEC3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4129D-ED82-46DC-BDCE-FB035FF4EA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4"/>
            <a:endCxn id="106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6" idx="4"/>
            <a:endCxn id="111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6" idx="4"/>
            <a:endCxn id="110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1" idx="4"/>
            <a:endCxn id="116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94D3-DE85-41F5-ABB3-A89EF74B1A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A0761-9B99-408D-A979-1DBF858885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66F-7B38-4CEE-88C5-27E4FD1621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63FBA-F78B-43A6-AE46-753029CDB5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4C0-FA75-4C35-B1BC-BB1EE8CC28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D2607-BB18-4B08-868F-2406AA4026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F1F-688A-4514-A5BF-DA57B43329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E1FCC-F877-41E1-A98D-E53532F76E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s to compiler that obj is statically typed to ModelSwarm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4E1E-62AE-4B75-9451-36F4F4D7BF97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C0E2B-8A9F-48FF-BAD4-9D143166B6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ither case the object is created “in a memory z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’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DEA-2BBE-4604-8AF6-EC867D7A37E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78511-512E-460C-9BEF-B203C852EE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C33-BC7C-45DD-A9F1-A5514FB0AE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55EEA-8B05-4301-8D0E-305AB0BFDE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66688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EEE7-B797-40B9-B8F4-113B5B922B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CAADC-BBBC-4513-8823-06277FC596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5AA6-2755-45EA-AB95-1B74B1CFD1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B6E47-288B-4F92-A059-B948FACA92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FCC1-BECF-41BD-84AA-44BBBEDBA07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63655-AE20-4F93-AC8A-3FE390ADC6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7E3-DC64-4549-8166-888FB34A8CC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EB6F4-3222-4440-8862-2AA0F25607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DD8-016A-4395-8C62-05FDC632949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F51CF-A3B1-4857-BEBC-A7FBF350C5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B7D-2292-456D-A39D-D46C3FFBC85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A0851-C552-4D00-8C32-B2458C9384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E87-2A0A-44BF-A5EB-0D07A5C8F8C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D25A9-26AD-40F3-BF1B-EBD7E69D50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4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3" name=""/>
          <p:cNvCxnSpPr>
            <a:stCxn id="231" idx="3"/>
            <a:endCxn id="225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4" name=""/>
          <p:cNvCxnSpPr>
            <a:stCxn id="230" idx="3"/>
            <a:endCxn id="226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3393-AF79-4FB9-9826-B3B907B1B4E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136A0-482B-46B1-B527-E4744A7B90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FF2-DB80-44B4-BC9A-C84BCA3352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B6CAB-B353-4A9A-8A53-9D27E650D5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061-F293-415A-986F-F8AE5FC0287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28BD1-9392-4DDC-8E30-D7C14A6539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F9B-D3C2-4886-8616-DE5E462E58D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B5232-4089-4748-852D-95394E3802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0B1-3570-4237-86E2-7F5676E1163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D97B2-67D9-40D8-8C2E-DB31A5A9B7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FoodSpac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F78-12FC-4D2A-93E2-A3D66505C6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6B2D2-4CA1-4346-A013-F1764E74FD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5B40-1BE9-4B78-B922-E35D86C4ACD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6CAC0-EE1D-48A7-8B68-B67EF874DD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8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5" idx="0"/>
            <a:endCxn id="312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16" idx="0"/>
            <a:endCxn id="313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7" idx="0"/>
            <a:endCxn id="314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4DC-AA80-460F-A07F-D53745FD23B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6A9EB-31FD-474F-BD76-6E9A1DDA69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FD4-E371-4726-B6F7-0824D37F22E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E5F48-69E6-4104-9EB0-308DB2CB07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7DA-F3FD-4B37-862B-6DA81ADE2FD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5BE87-851D-4606-8693-5A090B2BBB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169-FFCC-42B7-93C0-8BE0281B11B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6DBEC-F95E-455A-9702-726567354E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2A2-05BC-4C34-8393-6CB8C1EA7CC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62A8A-963D-4DDC-B625-99E42BCDDA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924D-1372-472D-BED1-43587860535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702AB-5BB3-4F2E-A956-BC971EA91C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4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" name=""/>
            <p:cNvCxnSpPr>
              <a:stCxn id="360" idx="1"/>
              <a:endCxn id="358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58" idx="7"/>
              <a:endCxn id="359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3" name=""/>
            <p:cNvCxnSpPr>
              <a:stCxn id="360" idx="6"/>
              <a:endCxn id="359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4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C5B-BC19-4E8F-BEF4-A3226B5EB88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40C9B-72E0-4D08-ABAC-79A77AF40E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endCxn id="386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A47-F303-40B6-A17C-9E794A93CB5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64241-032F-43AB-BBF3-5AEAF5F73D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8FD0-B7FF-474E-A524-A0CD7C0F5D7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EE445-9A46-49DC-A780-773782C66B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81B-0A17-412F-A7EB-BA70232A351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DBEB1-9CBA-4C8C-B0AC-2403DC7A3C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028-2F65-4640-B6D7-62AAD4915EA2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339C3-068D-4ED0-8B7D-5376834FAD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14" idx="1"/>
            <a:endCxn id="418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1" idx="1"/>
            <a:endCxn id="421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1" idx="2"/>
            <a:endCxn id="410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8" idx="3"/>
            <a:endCxn id="410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7" idx="4"/>
            <a:endCxn id="416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F57-B9E1-4296-A081-FD45AAFAC8DC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B30CD-FAE1-4010-9DB4-345EDFE0BF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2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4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7" name=""/>
          <p:cNvCxnSpPr>
            <a:stCxn id="465" idx="1"/>
            <a:endCxn id="455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68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001-7160-4E1A-AAED-EEB54E579FF3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3031B-610B-4156-AFAD-7987D628B2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78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79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41C-2AD1-430C-B380-860E204F58B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53051-1219-4035-87B0-FD85EF3501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B92-267C-414A-A9C5-B23DF662EBF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1D457-D40B-4ACD-AD46-A4EC921D85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497" idx="0"/>
            <a:endCxn id="492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497" idx="2"/>
            <a:endCxn id="495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7" idx="2"/>
            <a:endCxn id="499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C4B-3E6B-4A44-9D95-35E9F923717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6A395-058E-4DAC-B4CA-C9A03B9621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lso must execute CREATE_PROBE_DISPLAY mac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ObserverSw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DE9-0689-4BC2-8DC4-2D1F2435C10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3103B-427A-4B16-B4D4-8335ED2B47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3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C75E-2D92-4069-AE2C-FEAA0AF83436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D6AF2-F3A1-406E-99EB-13B8C50104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3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4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1A4-84DB-4721-AD8F-2AF8E2723926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1139A-356F-47FB-97B9-32F3BAD793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7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3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2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58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7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DF6-7838-4199-A9AB-518471A539C7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4BC82-508D-4F62-B914-28F01F08D6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F19-E37A-4C48-8B8F-63DE8E20FC53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4D139-FD7E-4BAD-895A-DFD39C61FC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3D1-C3F2-40EE-BB08-7B22E74CABAA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94C46-48AB-44F9-A574-4FD6C8142A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 class sets up line graph for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agent 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of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th cases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sequence (Count, Total, Average, Min,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(obj or coll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method to fetch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53080" y="2368440"/>
            <a:ext cx="1371600" cy="998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7166160" y="4201920"/>
            <a:ext cx="939600" cy="1577880"/>
            <a:chOff x="7166160" y="4201920"/>
            <a:chExt cx="939600" cy="1577880"/>
          </a:xfrm>
        </p:grpSpPr>
        <p:sp>
          <p:nvSpPr>
            <p:cNvPr id="704" name=""/>
            <p:cNvSpPr/>
            <p:nvPr/>
          </p:nvSpPr>
          <p:spPr>
            <a:xfrm rot="17683800">
              <a:off x="6835680" y="4842000"/>
              <a:ext cx="1600200" cy="297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31080" y="444888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4800" y="4758840"/>
              <a:ext cx="213840" cy="214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70000" y="50169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315200" y="53265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9" name=""/>
          <p:cNvCxnSpPr/>
          <p:nvPr/>
        </p:nvCxnSpPr>
        <p:spPr>
          <a:xfrm flipV="1" rot="16200000">
            <a:off x="6110640" y="1971720"/>
            <a:ext cx="846720" cy="1791720"/>
          </a:xfrm>
          <a:prstGeom prst="bentConnector5">
            <a:avLst>
              <a:gd name="adj1" fmla="val -27009"/>
              <a:gd name="adj2" fmla="val 57435"/>
              <a:gd name="adj3" fmla="val 127009"/>
            </a:avLst>
          </a:prstGeom>
          <a:ln w="9360">
            <a:solidFill>
              <a:srgbClr val="f8f8f8"/>
            </a:solidFill>
            <a:miter/>
          </a:ln>
        </p:spPr>
      </p:cxnSp>
      <p:cxnSp>
        <p:nvCxnSpPr>
          <p:cNvPr id="710" name=""/>
          <p:cNvCxnSpPr/>
          <p:nvPr/>
        </p:nvCxnSpPr>
        <p:spPr>
          <a:xfrm rot="5400000">
            <a:off x="5923800" y="3371760"/>
            <a:ext cx="305280" cy="1486440"/>
          </a:xfrm>
          <a:prstGeom prst="bentConnector3">
            <a:avLst>
              <a:gd name="adj1" fmla="val -7497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6019920" y="4044960"/>
            <a:ext cx="1523880" cy="984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"/>
          <p:cNvCxnSpPr>
            <a:stCxn id="704" idx="1"/>
            <a:endCxn id="711" idx="4"/>
          </p:cNvCxnSpPr>
          <p:nvPr/>
        </p:nvCxnSpPr>
        <p:spPr>
          <a:xfrm flipV="1" rot="16200000">
            <a:off x="6697080" y="5112360"/>
            <a:ext cx="687960" cy="519840"/>
          </a:xfrm>
          <a:prstGeom prst="bentConnector3">
            <a:avLst>
              <a:gd name="adj1" fmla="val -4246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3" name=""/>
          <p:cNvSpPr/>
          <p:nvPr/>
        </p:nvSpPr>
        <p:spPr>
          <a:xfrm>
            <a:off x="5180400" y="54864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00600" y="40384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76920" y="41911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952880" y="44949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22096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029200" y="23623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105520" y="26661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13" idx="2"/>
            <a:endCxn id="704" idx="2"/>
          </p:cNvCxnSpPr>
          <p:nvPr/>
        </p:nvCxnSpPr>
        <p:spPr>
          <a:xfrm flipH="1" flipV="1" rot="5400000">
            <a:off x="6392520" y="4565880"/>
            <a:ext cx="891360" cy="1864440"/>
          </a:xfrm>
          <a:prstGeom prst="curvedConnector5">
            <a:avLst>
              <a:gd name="adj1" fmla="val -25656"/>
              <a:gd name="adj2" fmla="val 65102"/>
              <a:gd name="adj3" fmla="val -256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20E-99C2-4F68-9DE7-0114852A10D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28F66-89E0-4CAF-B61C-F79F5A96B5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C program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started at X=$1 Y = 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10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xPos 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worldSize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yPos =yPos +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 worldSize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moved to X=$1  Y=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A14-1B6D-40AD-BAD5-F9BD2500F5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09977-D30E-4E0E-9056-54A2BF1F2C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 and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5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6DF-E6D7-405F-A2EA-3036D0436A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71DA5-193E-4535-BC22-49E6732996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FE6-33BF-48DF-92B8-B9275A82F81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2866A-A708-4563-98D0-EDC3C5EB60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D71-BB99-437D-8B0A-53D49EF73A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A847F-E761-4E01-B701-B22DAD73DC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Benedikt Stefansson</cp:lastModifiedBy>
  <cp:lastPrinted>1998-03-18T02:24:41Z</cp:lastPrinted>
  <dcterms:modified xsi:type="dcterms:W3CDTF">1998-03-19T09:21:11Z</dcterms:modified>
  <cp:revision>28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