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93B47D-EEEC-4273-AF4F-B71EB02C1C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A0A616-FF93-46A4-95CA-95868C42E9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8DD2D8-9208-4091-9970-2228EA834F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3167BD-EF62-42B5-B309-399A79A1F3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CB15CDC-8DE9-4CD3-AEFC-31DAE7B9F67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672950-8EE1-41ED-B3D6-FD4A248275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8EC3AE-E4A5-45BE-AAA4-23B3EE3725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13CFC0-4090-4C52-A7BC-4DC18CE5C4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21182D-4A7F-408F-B930-5DCF7E6888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621348-C642-4EC4-BFC8-ADD9C7273A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1A0A83-EB56-433C-AF6A-7928DEB88A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FD9173-FFC2-43D4-A483-F40F2389BA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5A788F-711D-49E9-808E-6963D558DD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18EF26-2E17-497B-A692-0FE86D9C1E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35A964-EA9F-4BE1-A91F-E38368154A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86453D2-3BAE-4AC6-AF07-B6AAEBEA29E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ADC1B39-58D9-4F60-AA16-BB749C6C2A4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3B907F-613F-474C-850B-AB4ADF50AA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720882-2259-404B-9F30-D9608F9560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CD7169-3FCC-4771-95AA-4294F41648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2EAD5B-BFC6-4861-B1DA-FC498474B8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492AC5-02E5-4BC3-8660-1532FD25AA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94FD74-7D30-43D4-882F-A8C6EEA3F1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A4F977-98E0-4C6A-8023-0A89B4C67A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302FC5-854A-4715-8A4F-84A6F6BCAD5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AE7655-B9A6-41E3-B65E-040BEA4D528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12DB114-B694-4987-B112-30D23406B42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ACEB23A-9A8E-4B91-B6BC-598D87CCDD24}"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29BC2D-2DDF-4843-ABA9-EA4CF1AC815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ED6F2A-E216-4889-82B9-E3D52E306422}"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9ECFA5-81B3-4DF7-8C87-1DBB3183CA02}"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B63F6F-E602-42D9-A9EE-D85B47B6C1CC}"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C54E9C-9CCC-456C-94D3-A8FB7585E37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570737-C0B0-4191-A66D-E2968B4463D4}"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5E90A4-6BED-4E1C-9BB1-AE3FAD6B80A9}"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4116A7-6EAE-4649-8355-E099B816B1E7}"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C49CAC-360D-42B3-96D9-6DFEA2C0BDCA}"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D7C771-34B7-4F57-84D7-E53CDDE2D8E7}"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006592-111B-4012-88EC-29812A3B4821}"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9FDDE3-D47F-4F36-A738-B0DF901AB703}"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CE0543-589E-4F79-AE84-EAB91CCD3A45}"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B47BAD-A286-441B-937F-C2D76FA28A33}"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5D65AA-7819-455A-857C-489C456E2BD9}"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E23D65-E632-45E7-9888-B65F3F5AEE66}"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BB6B34-7465-414D-A38E-1F0D4060C027}"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5EB350-B85C-44F2-A917-D0ADC829F070}"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5E42FA-E550-444D-AB8C-ADCE00F79DB8}"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6627FF-2D8B-4F05-8C66-56C12E70E067}"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46BDF7-177B-45AB-BCF3-A9B77EA567F2}"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1570BE-CD35-4F6C-92AF-2D8808A41BC3}"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646A54-50C7-4382-A7EE-55C672CBEB67}"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8EB8FB-CC83-4F2A-8084-94FEF307AB8D}"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2C3912-EE51-4B08-A814-EEFEB8A22CE3}"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C1EF304-AAD2-4DCE-85B4-D347CAD2EB95}"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836812-AA57-4604-8D12-F7C616CC04D6}"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576960-3059-4E7E-84FF-44135690400E}"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EFB3F9-649D-4A0F-AFF1-4FAD02E7BFF3}"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F002E8-148B-495B-8C7A-97C509FC22DD}"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11FB12-C9B4-4891-8B64-E912895B2FA2}"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7DCC3A-EBE4-4F10-B08B-4C837AB221DD}"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619E68-7E26-4696-A7D0-10CEDB085BF5}"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007E5B-1B74-422E-AE18-20CBDF1F52FF}"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433342-5AA7-4418-AFCF-95828752BD25}"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150C80-42D2-4370-B1B0-3C178F15B316}"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7BA064-1F44-42A9-98EF-26FD8C201E9D}"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E93DC1-A1C8-4099-8C9D-9C0DCC666FC0}"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B23983-758B-4842-B06A-12FCCF734E57}"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78FEF3-38BE-45DC-9FFC-506072368BCA}"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E29F38-F475-4623-92B3-F4EE21F25AC0}"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148049-0DDF-40C4-8572-8F0AEA4D4326}"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FA22C2-00C7-4980-9AB5-A97594BB0FC5}"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9B77FB-4ECD-4ADF-BDC8-38702458913A}"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7E0343-A21E-47ED-996F-9A5BEB7B1D8F}"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8B031D-C6F3-424E-B21B-78A211570178}"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0A85EE7-4CA9-4789-A1D5-BAF723E736E2}"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3E2A0B-66DA-4F78-8807-094881F55068}"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99044F-9837-426B-83A1-3C456E690034}"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E58C8ED-ED19-44E0-9575-A965493952B1}"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5E4A8B-9535-4417-AB25-2B6D459F1B9B}"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C73B7C-41EA-44DF-A1BE-EC303C813855}"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589384-E0F9-4CD1-AE70-C2DD34747CD9}"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E432EB-4089-46F4-8070-A82E44B052EB}"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756623-EB18-4A1D-A307-168FE4E1D76B}"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E3ED95-3518-4E88-956E-2F55888E06E4}"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054433-3391-4B5F-B847-B6175AB70EDA}"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A6234A6-AB03-409A-811B-3E408CC7BA39}"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45F3FB-C3F3-4897-9A15-B562EF2D35FF}"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FC8546-25B2-4137-9812-0A4B3C5793E2}"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350F47-5F27-41D4-810C-DDCE8D16170E}"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FAA7CD-8237-4F95-AD93-09AB565F30FE}"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E18987-5BAA-4A80-9945-3FFCDA6AB295}"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6FF35FE-2B7D-4E7A-B8E3-CBD281BDC48A}"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14A50F-36F4-4D6F-A7A4-EED23AD2B969}"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F57C9D-03A1-48D5-BBBA-B18FE707DC26}"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AC7172-32DB-4692-96F0-F304B73B1865}"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0F2C7C-8FE6-41C4-B9D6-1EFB305CE190}"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9655C91-96FA-4047-BE8D-6284FB7AD15B}"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6053F2-9E3B-4C0F-9324-86A91F498C80}"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0F6708-2D5A-4781-90C5-CABEBC9EE452}"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0CBF35-1442-4824-AD87-2C6117751C8F}"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87CC72-DC19-4CB3-BBA6-4D6FCFB5CF3D}"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185F67-C98D-460A-9785-3785F8BBF590}"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234A35-E690-4F2F-876E-05E17DB8B676}"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0EB3847-7054-4D44-BE26-630151195618}"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585DDD-F2D1-4972-92E4-CD4874C0E39A}"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F33AF8-1A5C-4AE6-BD21-7F16BA85F084}"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CA8F4D-4928-44A5-899C-6C74B4700E45}"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2F0B58A-7746-4F09-9EBE-D25341A5EAAF}"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4E7905-4E6E-4924-9C04-C6855063BF5B}"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DC6EAD5-CA22-47DE-8075-5F3926063895}"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A9A86F-00B3-434B-A339-A55069C15573}"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66E685-9040-4463-863C-D8512EA2C99F}"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642A05-56F8-466C-8DFD-E913E077F708}"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F3260D-1370-430C-9E0B-C2CB8FADA1A5}"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9AAE91-95E1-4287-82FA-337CF9E47527}"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45DC7F-26F8-479F-88A0-BF404897F1BF}"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98CC4B-13FC-4D32-A0E3-132723FF087E}"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1D5A54-4091-45DE-A68F-554A1F15B923}"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1ABDDC-64CA-4B16-BBDA-2761077D9B72}"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4FD67C-17AC-4AC0-91EE-BD839E031163}"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36B59F-7DF8-47D0-BAA0-88B3A0BEDC9A}"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2FB650-202E-43E1-8917-15487C8E06B9}"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02E569-3D15-428C-8D69-DCE5FCAF9680}"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BC0AA6-00F6-4D2B-AC49-8F8E01ECB48A}"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95F04D-B6A0-4AB1-BDCE-30E35A0CE7A0}"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ACB93E4-F2C6-40A3-AD54-67BD0359A408}"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BC3C4A-172F-4E73-9F19-D448CF9FCB71}"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58C05A-0372-47C7-9883-205CE9E4A83F}"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385394-8491-46AD-8E52-749753A54EA6}"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DB5088-B951-4193-8134-6C21335982FB}"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490248-B056-4058-9938-1F949936FA07}"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F008CE-64FA-46EA-BD87-70957C69633B}"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F1D38E-E25B-4809-989B-4D5C91CFC002}"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904AE2-034C-400B-AD70-C4F1F72314A5}"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29C174-BDB5-49DF-BEBE-5301B0D1B3C3}"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590171-B963-4525-9A76-ED01F0558F27}"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F43149-A0D7-493A-BA5B-117DEC6A1CDF}"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B2DDBD-9002-428D-BA96-B6007706F1C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36E286-55E9-4E37-97B2-CEF27459E569}"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D2CE94-858A-4CA9-A373-702BB5C15E11}"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576AD6-992B-4BE3-B646-7604C3FBD0DA}"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BC8F0E-C4D6-4CEA-B6F9-6D96F1B9CEAC}"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528BEE-D264-4FED-88DE-D8797E20E58C}"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506092-DE12-4C37-B103-FC26E3E69A58}"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89CBAF-4F13-4214-B611-D0AB75598DC2}"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C3085A-09AF-43B1-BB70-800E3228C3B4}"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8BD4E9-B84C-478A-88EC-9A34013D6C1A}"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FD3534-BAEF-484F-8F87-FCCAA4BAF732}"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EC4CF3-8515-4E27-8249-E963FC75B535}"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5622B3-D00B-4C9C-8DE1-0D26F85ACE1D}"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461AEA-1F30-45FB-B015-5954D3FEC083}"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55C49A-88BF-4312-9C79-D0A5A67E8E03}"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466B08-7B84-4A07-BF5F-EFA8540CC353}"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9B92E15-60C2-4AC2-B00A-7D350C570C22}"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AF1829-CDE5-4F2B-A86E-2438D1BC060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DDB96C-D505-478F-9021-644B753D73E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4C07C4-8388-4A1E-81EB-8974EEA396C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6BE9AC-F0A7-4914-BBEA-48FDEE2CFDA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9AE1A2-471A-43C4-A421-7366B81931D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30CF9F-E088-4E2A-9B53-6C3E6C511D7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65596F9-E02F-496D-8EF3-800C7A2BEF7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D9E964-29C3-4A60-A3BE-BD5ADB985C5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BA19DA-BFC4-4DF1-A985-BA1EE601550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2D9CD6-08F6-45EA-AE3B-F8B16AFE55D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350C53-548E-432D-8D0A-0CDD255BDBD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28F102-9CE8-446E-B999-E8F47436853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304001-D490-42FA-A87D-8768C5A64CE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1F0D6A-0605-4515-991C-ACA5CA42C1D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2D0116-1D48-4E35-8F80-79FABB746A5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B36A04-2914-4B48-8C24-A56DD7510FF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82036A-5936-472F-949F-2DC99D61803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2341F4-A4CA-492E-B274-54354E7F792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20130F-8F28-4BE7-BA2E-7553ECF04BA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DA3E09-EAAC-4B54-A43A-DE76AAEF721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8D3F01-D1B2-4F38-94D9-10FAD69E93A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DB76A6-6A5B-4068-B710-5C30E6C7724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49B4FA-902D-407E-8EAC-F8962F20690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0E3036-3BA3-4225-8E2D-E88509E213B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54766E-BFAF-4E3F-BE8D-8B65A8DE4A3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5FDB5C-BF34-48C6-A6C7-8CD96E3906B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69A8FA-4822-4349-B06F-F28EC91A8F9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36FD17-DF8D-424A-B59D-3E9D10FE275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DD1474-4252-4D64-AA3E-9350CAF3E4A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C88FE6-DBB5-46BB-BDE9-C240448BEF5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51C124-8511-4713-913C-529EC9ADE9F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C265BA-2AF6-42F8-9859-7BB1ACE5CDF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10D79A-BDD7-4BA3-AAC1-4E1715B0859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CED006-2AE7-4CE3-BD95-1F53447FC99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7EB8CD-9178-4A39-AC4E-754CC88CD7B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80C616-5B93-47B0-9249-04D9DF78A40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19D3F3-D968-428D-A470-A2CCD91A9ED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03424D-2422-4AE5-947A-F13C8D7CB43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4E5F24-BF41-46CE-A19B-48FF9F5B838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476C5D-6A94-4F2E-A96C-E362E2FE8AF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100B9F-F4E1-49BD-B663-1C3DD8F9991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8F8F9D-5FC2-43C6-BBB2-876707BFE393}"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E56588-3C7B-448C-9E60-C59E8D230C8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743607-4B4E-4C03-B543-E69CAF2C7DD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B7EC4F-F759-451D-9C9B-E835E42FAD44}"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C3617C-170F-4884-9516-2021835FDF3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E54AFE-11D2-48BA-9B03-C24F1EB2BAAC}"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28C7453-E304-4C81-939E-AB392E2FE2C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84A005-0749-4C4B-B79C-939B7A3B2EBB}"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566C38-31EA-46DB-997C-94B1C8EE221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41BF77-CAEB-414D-BAAF-53DAD63C8A15}"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CEB4E9-E8E6-43CD-B48B-77F5A393842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536A3D-08BB-412A-B851-DFCF6CD8B7AB}"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80B662-FFA7-4F16-8DB6-15056C1DB19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F47D8E-153E-4AA1-81E0-15CB5EC2CD2F}"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DC2A4F-2CF2-47EE-B62D-456DE513464D}"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F1BBBD9-20A8-47BD-976F-A3F79466FDD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BA3373-32AE-4F8F-917C-09329CFE2F6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BDF8F0-2300-4092-B3AA-143B17F1548E}"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1C2631-EED9-4178-8479-662F4DF96FC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D9E57B-3B23-4DE7-839E-3CC65627B169}"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0253EA-712C-4BB4-AD74-2C6D3487F778}"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76654B-E5BF-4D84-B832-FE03AC9A9854}"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F186D9-57F2-4BDC-855F-8D00EE066361}"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157EFE-4F1C-492B-B27A-28CF40E015ED}"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92E9C8-CA24-45BE-802B-4BACA4975F2E}"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8BE725-AFD8-410E-95DA-FA87727E64F9}"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1481B4-B907-4322-B999-1BF758EFF109}"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88E3A1-C56E-49C3-B68F-C9E931B4AFD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D58086-8288-4EA9-8FFA-D7D5E1A045A0}"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01F2C4-65D9-4D12-A80D-F2F738A279C0}"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99EC454-B5D5-4064-B1ED-DBF80AE60E84}"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DE0536-B1C6-43C9-AA76-811E3F9E7840}"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4FFF3B-442D-40C1-B26B-88217A5AD21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6C5C47-264F-4031-9851-4C4D5AECEDC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179536-291F-4752-A40E-928B697C9E79}"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457C40-B8BE-42A3-BD66-C8A340226684}"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090909-7158-4EB3-AC7B-A0010BC3C34D}"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E7F4BD-69FF-49B7-9F0F-9C804D608BC5}"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EDEE18-258C-4693-AA94-D69F1BBAFAB4}"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549F0C-853D-4F06-A47E-A9059646DD98}"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4F77EE-75DB-4733-B7E8-0A9C6761717C}"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35F26D-F1CE-4CD9-8A2A-EAA8851DA1C9}"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A6D040-E6E9-414F-9A12-11A3DBC997CF}"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633B58-716C-4AF8-8372-C0ED2551E36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