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1463"/>
        <c:axId val="36956144"/>
      </c:barChart>
      <c:catAx>
        <c:axId val="7561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56144"/>
        <c:crosses val="autoZero"/>
        <c:auto val="1"/>
        <c:lblAlgn val="ctr"/>
        <c:lblOffset val="100"/>
        <c:noMultiLvlLbl val="0"/>
      </c:catAx>
      <c:valAx>
        <c:axId val="36956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1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FBA-4BDE-4B1A-9F0D-DD274756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C2F-E0CA-4A72-A80C-EE4FD1D5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AB7-6939-47C0-BDB8-E1F36AB8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0A8-9750-42AA-B470-848ABEF5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7B1-568E-4344-AC24-5FE92BB5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83A-8F38-4E6F-AEE4-426A3FD3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F82-1672-4E09-8299-C1681D97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14A-C200-457E-88F7-6B034601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A15-920B-476B-990A-ABB3D31E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038-5106-4908-86BD-A84A76F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F04-F6A4-4511-8ABB-7D966A9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D54-F6F0-40F0-B1AD-E91FA668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C54F4-25C1-444D-87C9-6D2516415F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