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06BC-C373-4DBC-A28E-D5F9C490C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809BD-D5B8-412E-84AD-B8C6A8945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A031-2B0F-4CD1-99A6-B99D04D6D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2DDAE-54A8-4060-BCFC-F2B2EABF3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729E2-ED11-49D2-9D3A-F9BAC5D7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FDB3-CD34-4E00-B80E-1427D7026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3E7F-7630-46FA-89A3-B167A831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CDB83-1DED-4F98-A4B5-290F91B5C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505320" y="-360"/>
            <a:ext cx="5333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1633-365C-4C41-B9D0-52A29E695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29B18-C9F3-4C18-A2AF-A6E95DFF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EF89C-7E68-452F-99DC-BA9C93C9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55B0-1459-4F3D-8AE0-BD6F84142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pt_backgr_04_details_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1F3DF-3FEA-4A90-9B29-BFCBBEAA963D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pt_backgr_01_welkom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wij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rugblik FP CK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ooruitblik FP voor Informatic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elium opnemen in ID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stributi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centi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anneer openbaar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tform ondersteun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aal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rator sect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dule syste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rrefutable patterns (~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ass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nderzoek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ransformatie (A-termen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ooks” voor andere systeme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rectory structuu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terpre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05320" y="-360"/>
            <a:ext cx="5333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le / direc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Koppeling met Java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U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62280" y="228600"/>
            <a:ext cx="5253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Wie doet Wat?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8T08:34:29Z</dcterms:created>
  <dc:creator>Arjan van IJzendoorn</dc:creator>
  <dc:description/>
  <dc:language>en-US</dc:language>
  <cp:lastModifiedBy>Arjan van IJzendoorn</cp:lastModifiedBy>
  <dcterms:modified xsi:type="dcterms:W3CDTF">2002-12-18T08:42:02Z</dcterms:modified>
  <cp:revision>6</cp:revision>
  <dc:subject/>
  <dc:title>Onderwijs</dc:title>
</cp:coreProperties>
</file>