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</p:sldIdLst>
  <p:sldSz cx="9144000" cy="6858000"/>
  <p:notesSz cx="6753225" cy="9888538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0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6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7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BBDD70-191E-4926-9D4D-33A50D51AFE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68E8A9-D17C-48AF-86DE-6E6B109205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02512-0DDD-4622-80A5-D0B10A8A69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79813B-E59B-4E33-AF71-6BA98FA2C8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517C04-9613-4DDE-96C6-5F522BAF3B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9A5A9-7C78-4798-9B6E-F909F16F5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7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23E4B6-C90A-473F-85E2-ABEE29F699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ubTitle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AC8B-7FD6-4CA0-85B0-22F3F1DAC6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A8F95D-AB08-4814-8F38-45267ADD4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289DBA-F93B-4780-AD8F-529F31117B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1CD4C7-99B7-4292-BF1A-3F965C53A26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33166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6176880" y="137160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5684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79" name="PlaceHolder 6"/>
          <p:cNvSpPr>
            <a:spLocks noGrp="1"/>
          </p:cNvSpPr>
          <p:nvPr>
            <p:ph/>
          </p:nvPr>
        </p:nvSpPr>
        <p:spPr>
          <a:xfrm>
            <a:off x="33166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0" name="PlaceHolder 7"/>
          <p:cNvSpPr>
            <a:spLocks noGrp="1"/>
          </p:cNvSpPr>
          <p:nvPr>
            <p:ph/>
          </p:nvPr>
        </p:nvSpPr>
        <p:spPr>
          <a:xfrm>
            <a:off x="6176880" y="4237560"/>
            <a:ext cx="2723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6D2A-3C6D-48D6-A870-FD052F8091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8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subTitle"/>
          </p:nvPr>
        </p:nvSpPr>
        <p:spPr>
          <a:xfrm>
            <a:off x="456840" y="152280"/>
            <a:ext cx="84582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4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4790880" y="423756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790880" y="1371600"/>
            <a:ext cx="41274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6840" y="4237560"/>
            <a:ext cx="8458200" cy="2616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336699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ff9966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"/>
          <p:cNvSpPr/>
          <p:nvPr/>
        </p:nvSpPr>
        <p:spPr>
          <a:xfrm>
            <a:off x="0" y="1708200"/>
            <a:ext cx="9147240" cy="0"/>
          </a:xfrm>
          <a:prstGeom prst="line">
            <a:avLst/>
          </a:prstGeom>
          <a:ln cap="sq" w="12600">
            <a:solidFill>
              <a:srgbClr val="01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39" name=""/>
          <p:cNvSpPr/>
          <p:nvPr/>
        </p:nvSpPr>
        <p:spPr>
          <a:xfrm>
            <a:off x="-2895120" y="843120"/>
            <a:ext cx="5790240" cy="12035880"/>
          </a:xfrm>
          <a:custGeom>
            <a:avLst/>
            <a:gdLst/>
            <a:ahLst/>
            <a:rect l="l" t="t" r="r" b="b"/>
            <a:pathLst>
              <a:path stroke="0" w="21600" h="21600">
                <a:moveTo>
                  <a:pt x="10800" y="0"/>
                </a:moveTo>
                <a:arcTo wR="10800" hR="10800" stAng="-5400000" swAng="5400000"/>
                <a:lnTo>
                  <a:pt x="10800" y="10800"/>
                </a:lnTo>
                <a:close/>
              </a:path>
              <a:path fill="none" w="21600" h="21600">
                <a:moveTo>
                  <a:pt x="10800" y="0"/>
                </a:moveTo>
                <a:arcTo wR="10800" hR="10800" stAng="-5400000" swAng="5400000"/>
              </a:path>
            </a:pathLst>
          </a:custGeom>
          <a:gradFill rotWithShape="0">
            <a:gsLst>
              <a:gs pos="0">
                <a:srgbClr val="ccecff"/>
              </a:gs>
              <a:gs pos="100000">
                <a:srgbClr val="ffffcc"/>
              </a:gs>
            </a:gsLst>
            <a:lin ang="5400000"/>
          </a:gra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9999"/>
              </a:solidFill>
              <a:latin typeface="Times New Roman"/>
            </a:endParaRPr>
          </a:p>
        </p:txBody>
      </p:sp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2743200" y="42696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Click to edit the title text format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 type="dt" idx="1"/>
          </p:nvPr>
        </p:nvSpPr>
        <p:spPr>
          <a:xfrm>
            <a:off x="3045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 type="ftr" idx="2"/>
          </p:nvPr>
        </p:nvSpPr>
        <p:spPr>
          <a:xfrm>
            <a:off x="35812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99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4"/>
          <p:cNvSpPr>
            <a:spLocks noGrp="1"/>
          </p:cNvSpPr>
          <p:nvPr>
            <p:ph type="sldNum" idx="3"/>
          </p:nvPr>
        </p:nvSpPr>
        <p:spPr>
          <a:xfrm>
            <a:off x="70102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99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EFC32F5-0E57-4CA5-A598-F6595F4D5323}" type="slidenum">
              <a:rPr b="0" lang="en-US" sz="1400" spc="-1" strike="noStrike">
                <a:solidFill>
                  <a:srgbClr val="ff9966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1" marL="457200" indent="0" algn="ctr">
              <a:spcBef>
                <a:spcPts val="6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Second Outline Level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ff9966"/>
              </a:buClr>
              <a:buSzPct val="65000"/>
              <a:buFont typeface="Monotype Sorts" charset="2"/>
              <a:buChar char="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336699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9966"/>
              </a:buClr>
              <a:buFont typeface="Arial"/>
              <a:buChar char="–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1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2744640" y="2895480"/>
            <a:ext cx="6399360" cy="1524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b">
            <a:noAutofit/>
          </a:bodyPr>
          <a:p>
            <a:pPr indent="0">
              <a:lnSpc>
                <a:spcPct val="8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EMBOSS</a:t>
            </a:r>
            <a:br>
              <a:rPr sz="6600"/>
            </a:br>
            <a:r>
              <a:rPr b="1" lang="en-US" sz="66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66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subTitle"/>
          </p:nvPr>
        </p:nvSpPr>
        <p:spPr>
          <a:xfrm>
            <a:off x="3733920" y="4876920"/>
            <a:ext cx="4572000" cy="1752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10000"/>
                </a:solidFill>
                <a:latin typeface="Arial"/>
              </a:rPr>
              <a:t>Gary Williams</a:t>
            </a: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Command line editing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is just a menu on top of the command-lin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can enter any command you like for Unix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dit the command line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F - forward, ^B - back, ^A - start, ^E - en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C - delete line, ^K - delete to end of lin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^R - recall stored file, ^G - recall default fil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AB - fill out rest of current menu option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 the available databases (showdb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embl:hsfau and embl:hsfau1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ottup with a wordsize of 10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ranslate embl:hsfau using ‘transeq -regions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Use the previous comparisons to get the regions to transla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showfeat -pos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Or use ‘entret’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eveloped by DKFZ for Hussar and GCG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BOSS works under it with little chang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demo tutorial is still written for GCG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o to web pag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000" spc="-1" strike="noStrike">
                <a:solidFill>
                  <a:srgbClr val="010000"/>
                </a:solidFill>
                <a:latin typeface="Arial"/>
              </a:rPr>
              <a:t>http://www.hgmp.mrc.ac.uk/Registered/Webapp/emboss-w2h/</a:t>
            </a:r>
            <a:endParaRPr b="0" lang="en-US" sz="20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imple mode/advanced mode - choose simp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Have buttons for pages: main, results, files, etc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Main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s to selec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elds to paste/upload/select sequence to analy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red ‘Start’ button to run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orm for options appears - click on ‘Run’ butt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to screen appears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Result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hows results from W2H program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freshed every 10 second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pplication link shows command that was ru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utput file link gives output file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Files pag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Displays files (with selection mask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directory to enter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file to view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button do things to selected file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Copy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Rena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Make Dir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64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oddity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hen some programs expect to read in two files (e.g. water), the second file is prompted for in the ‘Optional parameters’ section with just the prompt ‘File Using: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2H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ompare ‘embl:hsfau’ and ‘embl:hsfau1’ using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st2genome (note strange position of genomic sequence prompt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water (note the wrong position of the second file prompt)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harges along ‘sw:100k_rat’ using ‘charge’ (click on the ‘Produce graphic’ butto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ritten by the Staden te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Not part of the Staden package, but shares their look &amp; feel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Requires an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till in beta-testing phas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spin’ in EMBOSS option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main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Before anything else, you must load a sequen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ile: Load sequenc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lick on the ‘Emboss’ menu to select a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he results appear in the Output Window as well as in a fil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urrently the ‘Help’ option describes the Staden package!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Graphical output (e.g. dottup) is displayed in a zoomable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Web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W2H 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IS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wEMBOSS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celbalo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PBI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X-Window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GCG - Seqlab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BOSS - SPIN, (+ others coming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10000"/>
                </a:solidFill>
                <a:latin typeface="Arial"/>
              </a:rPr>
              <a:t>Telnet/xterm/Character-base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spin - Practical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lot the curvature of ‘embl:hsfau’ using ‘banana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Find all occurrences of ‘GACT’ in ‘embl:hsfau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010000"/>
                </a:solidFill>
                <a:latin typeface="Arial Narrow"/>
              </a:rPr>
              <a:t>THE END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b interface detail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any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2H (http://www.hgmp.mrc.ac.uk/Registered/Webapp/emboss-w2h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celbalo (http://corba.ebi.ac.uk/cgi-bin/alweb2/alweb.start?CFG=Emboss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BI interface (http://bioinfo.pbi.nrc.ca:8090/emboss/index.html) 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(http://ubigcg.mdh4.mdc-berlin.de:8080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Pise details (http://www-alt.pasteur.fr/~letondal/Pise/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(http://sol.biol.unlp.edu.ar/cgi-bin/embnet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550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10000"/>
                </a:solidFill>
                <a:latin typeface="Arial"/>
              </a:rPr>
              <a:t>wEMBOSS details (http://sol.biol.unlp.edu.ar/wEMBOSS)</a:t>
            </a: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0">
              <a:spcBef>
                <a:spcPts val="55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X-Windows interface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least three are being developed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Spin (Staden package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Kaptain (http://userpage.fu-berlin.de/~sgmd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Arka (http://www.bioinformatics.org/genpak/)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Character menu interfac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nly one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em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We will be looking at these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pin - X-Windows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W2H - Web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mnu - character menu interfac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emnu’ at the Unix promp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enu of program groups is show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up and down using arrow key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to an option by typing first characters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move by typing ^U/^D (up/down) ...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^P/^Z (page up/page down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pressing RETUR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select by double-clicking on an option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r you can type ANY Unix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programs menu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group gives the programs menu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ve around the menu as befor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Type ‘?’ to get help on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Can edit the line displaying the current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e.g. ^E to get to the end, then type ‘ -opt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Press RETURN to start the program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… </a:t>
            </a: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rom now on the menu has no effect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program takes over, prompting for any required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data and displaying graphics.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‘</a:t>
            </a: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more new-files’ is now the default command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6840" y="152280"/>
            <a:ext cx="8458200" cy="990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7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4800" spc="-1" strike="noStrike">
                <a:solidFill>
                  <a:srgbClr val="010000"/>
                </a:solidFill>
                <a:latin typeface="Arial Narrow"/>
              </a:rPr>
              <a:t>emnu - files menus</a:t>
            </a:r>
            <a:endParaRPr b="1" lang="en-US" sz="4800" spc="-1" strike="noStrike">
              <a:solidFill>
                <a:srgbClr val="010000"/>
              </a:solidFill>
              <a:latin typeface="Arial Narrow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6840" y="1371600"/>
            <a:ext cx="8458200" cy="5486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At any time you can type ^T (files) or ^N (newfiles)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You see Name, (Dir), Date &amp; Time, Size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directory moves into it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Selecting a file displays it using ‘more’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ff9966"/>
              </a:buClr>
              <a:buSzPct val="50000"/>
              <a:buFont typeface="Monotype Sort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10000"/>
                </a:solidFill>
                <a:latin typeface="Arial"/>
              </a:rPr>
              <a:t>Other things:</a:t>
            </a: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1 - view, F2 - sequence, F3 copy, F5 delet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The last used file becomes the default for those keys after leaving this menu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lvl="1" marL="743040" indent="-285840">
              <a:spcBef>
                <a:spcPts val="649"/>
              </a:spcBef>
              <a:buClr>
                <a:srgbClr val="336699"/>
              </a:buClr>
              <a:buSzPct val="75000"/>
              <a:buFont typeface="Monotype Sorts" charset="2"/>
              <a:buChar char="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600" spc="-1" strike="noStrike">
                <a:solidFill>
                  <a:srgbClr val="010000"/>
                </a:solidFill>
                <a:latin typeface="Arial"/>
              </a:rPr>
              <a:t>F4 - new dir, F8,F9 - sort by name,time</a:t>
            </a:r>
            <a:endParaRPr b="0" lang="en-US" sz="2600" spc="-1" strike="noStrike">
              <a:solidFill>
                <a:srgbClr val="01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1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3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3-19T13:47:22Z</dcterms:created>
  <dc:creator>elgar</dc:creator>
  <dc:description/>
  <dc:language>en-US</dc:language>
  <cp:lastModifiedBy>elgar</cp:lastModifiedBy>
  <cp:lastPrinted>2001-05-15T08:28:38Z</cp:lastPrinted>
  <dcterms:modified xsi:type="dcterms:W3CDTF">2001-05-29T14:38:04Z</dcterms:modified>
  <cp:revision>20</cp:revision>
  <dc:subject/>
  <dc:title>Introduction to EMBOSS</dc:title>
</cp:coreProperties>
</file>