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28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6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4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28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slide16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DF2FF0-96E4-4B23-96F8-206321FC2F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29A5C6-E1E7-4AFD-845F-B2F6C442C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818F08-9980-4587-BA8C-3A7AB6367B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22731-C905-4EE5-A86B-B07C7C3B68F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0A30F9-8283-4125-A566-5054F1451C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98F25B-2D7B-4580-A179-6CCDB08986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4166D0-3890-4675-AF25-724DCBAAF6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B32924-AB52-437C-8B72-429416BDE3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84BB85-96CA-42FF-ABC7-C0215FD597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69FEE8-E2FC-4CE8-B635-C04C04C4C3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1859B2-D104-4435-A7D8-5E5E98BED9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7EC1D-8274-43A2-9443-89ECDF57EBF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039554C-1BC8-4B8A-813E-DD036AB969E8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roduction to EMBOS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riting to the scree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Note that the default output file for wossname wa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tdout    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(Standard outpu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this whenever prompted for an output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s is a ‘magic’ file 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displays the output on the screen, not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an you find a program to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multiple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ORFs (Open Reading Frames)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anslate a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restriction enzyme sit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nd the isoelectric point of a protei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o global alignmen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orking with sequen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MBOSS reads sequences from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r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automatically recognises the input sequence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can easily specify many output format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etting sequences from the databas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atabase single entry (ID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entry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For example  embl:hsfau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ldcarded entries (Query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hs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ll entri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51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database:*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databases will support all 3 methods - some may no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howdb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000" spc="-1" strike="noStrike">
                <a:solidFill>
                  <a:srgbClr val="010000"/>
                </a:solidFill>
                <a:latin typeface="Courier New"/>
              </a:rPr>
              <a:t>showdb</a:t>
            </a:r>
            <a:r>
              <a:rPr b="0" lang="en-US" sz="20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isplays information on the currently availab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databas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Name        Type ID  Qry All Commen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#====        ==== ==  === === =======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pir           P    OK  OK  OK  PIR/NBRF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remtrembl     P    OK  OK  OK  REM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ptrembl      P    OK  OK  OK  SPTR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wissprot     P    OK  OK  OK  SWISSPRO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          N    OK  OK  OK 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mblnew       N    OK  OK  OK  New EMBL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est           N    OK  OK  OK  EMBL EST sequences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Reads in a sequence, and writes it out.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seqre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ads and writes (returns) a sequence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Input sequence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embl:xlrhodop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Output sequence [xlrhodop.fasta]: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more xlrhodop.fasta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&gt;XLRHODOP L07770 Xenopus laevis rhodopsi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ggtagaacagcttcagttgggatcacaggcttctagggatcctttgggcaaaaaaga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acagaaggcattctttctatacaagaaaggactttatagagctgctaccatgaacggaac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eqret from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iv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all of its data on the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t doesn’t need to prompt for anything el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-outseq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seq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be abbreviated to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‘-out’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ny abbreviation must be uniqu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ven shorter, leave out the qualifier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4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hanging output formats (reformatting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9000"/>
          </a:bodyPr>
          <a:p>
            <a:pPr marL="3394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-3394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can reformat sequences by specifying the output format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Arial"/>
              </a:rPr>
              <a:t>seqret embl:xlrhodop xlrhodop.fasta</a:t>
            </a: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000" spc="-1" strike="noStrike">
                <a:solidFill>
                  <a:srgbClr val="ff0000"/>
                </a:solidFill>
                <a:latin typeface="Arial"/>
              </a:rPr>
              <a:t>-osformat gcg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1800" spc="-1" strike="noStrike">
                <a:solidFill>
                  <a:srgbClr val="010000"/>
                </a:solidFill>
                <a:latin typeface="Arial"/>
              </a:rPr>
              <a:t>more xlrhodop.gcg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!!NA_SEQUENCE 1.0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enopus laevis rhodopsin mRNA, complete cds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XLRHODOP  Length: 1684  Type: N  Check: 9453 .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1 ggtagaacag cttcagttgg gatcacaggc ttctagggat cctttgggc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51 aaaaagaaac acagaaggca ttctttctat acaagaaagg actttataga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394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        </a:t>
            </a: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.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eading sequences from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Just give the name of the fi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myclone.seq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You may specify the input format (not required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gcg::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myclone.gcg clone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sequence from a file of many sequen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allclones.seq</a:t>
            </a:r>
            <a:r>
              <a:rPr b="1" lang="en-GB" sz="2800" spc="-1" strike="noStrike">
                <a:solidFill>
                  <a:srgbClr val="ff0000"/>
                </a:solidFill>
                <a:latin typeface="Arial"/>
              </a:rPr>
              <a:t>:52H12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 52H12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List files (files of file names)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quick way of grouping sequences to work on, like a private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ny valid sequence specification can be used, not just file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ne entry per line in a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omment lines start with a ‘#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dicate that it is a list file by starting it with a ‘@’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infoseq @mylis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any programs (infoseq, fuzznuc, fuzzpro) can write out list files from a search (us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usa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opti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533160" y="-360"/>
            <a:ext cx="701028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?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6854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sconsin package,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idely used, sources available for inspec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88 - EGCG - academic add-on start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CG commercial - sources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no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freely availabl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1999 - EGCG split from GCG to becom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Multiple sequences, single fil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writes many sequences to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Most sequence formats can deal with thi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10000"/>
                </a:solidFill>
                <a:latin typeface="Arial"/>
              </a:rPr>
              <a:t>Fasta, EMBL, PIR, MSF, Clustal, Phylip, etc</a:t>
            </a: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BUT NOT: Plain, Staden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BOSS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ads many sequences from a single fil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s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you wish to specify a single sequenc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there is only one sequence, or you wish to read all entries, use just th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Multiple sequences, many fil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If you wish to write one sequence per file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 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1" lang="en-GB" sz="2600" spc="-1" strike="noStrike">
                <a:solidFill>
                  <a:srgbClr val="010000"/>
                </a:solidFill>
                <a:latin typeface="Arial"/>
              </a:rPr>
              <a:t>-ossingle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qret “embl:hsf*” dummy -ossing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output filenames will be based on the sequence entry 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program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seretspli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will split an existing multiple sequence file into many fil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sterisk on the command 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't use a ‘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*’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 the UNIX command-lin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tries to match it to filename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se it quoted, either with quotes or a backslash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"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\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*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 exampl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Unix % seqret 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“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l:hsf*</a:t>
            </a:r>
            <a:r>
              <a:rPr b="0" lang="en-GB" sz="2800" spc="-1" strike="noStrike">
                <a:solidFill>
                  <a:srgbClr val="ff0000"/>
                </a:solidFill>
                <a:latin typeface="Arial"/>
              </a:rPr>
              <a:t>”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hsf.seq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ry running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howdb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,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eqre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nd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infoseq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how just the nucleic databas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Get the sequence entry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hsfa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from the EMBL database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’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tto, but into the file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gcg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GCG format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the sequence in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this.seq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 information on all sequences whose name starts with ‘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10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’ in the SwissProt databa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GUI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interfaces available or coming so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emnu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cheerful little character-based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2h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p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- from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ther web interfac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serpage.fu-berlin.de/~sgmd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http://corba.ebi.ac.uk/cgi-bin/alweb2/alweb.start?CFG=Emboss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bioinfo.pbi.nrc.ca:8090/emboss/index.html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ubigcg.mdh4.mdc-berlin.de:8080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http://www-alt.pasteur.fr/~letondal/Pise/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f in doubt, us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help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program -opt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tfm program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sequence data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456840" y="121932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7000"/>
          </a:bodyPr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r database information, u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0">
              <a:spcBef>
                <a:spcPts val="7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010000"/>
                </a:solidFill>
                <a:latin typeface="Arial"/>
              </a:rPr>
              <a:t>showdb</a:t>
            </a:r>
            <a:endParaRPr b="0" lang="en-US" sz="3000" spc="-1" strike="noStrike">
              <a:solidFill>
                <a:srgbClr val="010000"/>
              </a:solidFill>
              <a:latin typeface="Arial"/>
            </a:endParaRPr>
          </a:p>
          <a:p>
            <a:pPr marL="332640" indent="-33264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form Sequence Addresses (USAs)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entry_name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r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 database:accession_numb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database:wildcar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ilename:entry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format::file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20720" indent="-27720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@lis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onclusion - other qualifi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-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sbegin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begin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end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equence end posi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revers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everse complement the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low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low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supper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change sequence to upper c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sformat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output sequence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help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show help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options 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sk for optional parame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-auto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run silently (for use in scripts, 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s EMBOSS!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new suite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Open source software - sources availab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ublic domain (GNU Public Licence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ritten by HGMP/Sanger/EBI/Norway … etc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What it aims to do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A useful, integrated set of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y share a common look and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ncorporates many small and large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run from the command 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call from other programs (e.g. perl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Easy to set up behind GUIs and Web interfac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Scope of application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ere are many EMBOSS programs (150+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ttp://www.uk.embnet.org/Software/EMBOSS/Apps/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sequence analysis &amp; display program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otein 3D structure prediction being developed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assorted programs, eg: enzyme kinetic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An example EMBOSS program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It is easy to forget the name of a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o find EMBOSS programs,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 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finds programs by looking for keywords in the description or the name of the program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Running at the command-lin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ype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 at the Unix %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0">
              <a:spcBef>
                <a:spcPts val="700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Unix % </a:t>
            </a:r>
            <a:r>
              <a:rPr b="1" lang="en-US" sz="2800" spc="-1" strike="noStrike">
                <a:solidFill>
                  <a:srgbClr val="010000"/>
                </a:solidFill>
                <a:latin typeface="Arial"/>
              </a:rPr>
              <a:t>wossnam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Displays one-line descri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Prompts you for information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1800" spc="-1" strike="noStrike">
                <a:solidFill>
                  <a:srgbClr val="010000"/>
                </a:solidFill>
                <a:latin typeface="Courier New"/>
              </a:rPr>
              <a:t>restrict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SEARCH FOR 'RESTRICT’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code         Remove restriction sites but maintain the same translation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800" spc="-1" strike="noStrike">
                <a:solidFill>
                  <a:srgbClr val="010000"/>
                </a:solidFill>
                <a:latin typeface="Courier New"/>
              </a:rPr>
              <a:t>remap          Display a sequence with restriction cut sites, translation </a:t>
            </a:r>
            <a:endParaRPr b="0" lang="en-US" sz="1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etc…..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Optional parameter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wossname -opt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inds programs by keywords in their one-line documentatio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Keyword to search for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protein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program details to a file [stdout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myfile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Format the output for HTML [N]: </a:t>
            </a:r>
            <a:r>
              <a:rPr b="1" lang="en-GB" sz="2000" spc="-1" strike="noStrike">
                <a:solidFill>
                  <a:srgbClr val="010000"/>
                </a:solidFill>
                <a:latin typeface="Courier New"/>
              </a:rPr>
              <a:t>Y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first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String to form the second half of an HTML link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only the group name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Output an alphabetic list of programs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Courier New"/>
              </a:rPr>
              <a:t>Use the expanded group name [N]: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Help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Unix % </a:t>
            </a:r>
            <a:r>
              <a:rPr b="1" lang="en-US" sz="2400" spc="-1" strike="noStrike">
                <a:solidFill>
                  <a:srgbClr val="010000"/>
                </a:solidFill>
                <a:latin typeface="Courier New"/>
              </a:rPr>
              <a:t>wossname</a:t>
            </a:r>
            <a:r>
              <a:rPr b="0" lang="en-US" sz="2400" spc="-1" strike="noStrike">
                <a:solidFill>
                  <a:srgbClr val="010000"/>
                </a:solidFill>
                <a:latin typeface="Courier New"/>
              </a:rPr>
              <a:t> -help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Mandatory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[-search]   string     Enter a word or words here.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Optional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 (* if not always prompted)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outfile   outfile this program will write the program names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</a:t>
            </a:r>
            <a:r>
              <a:rPr b="0" i="1" lang="en-GB" sz="1600" spc="-1" strike="noStrike">
                <a:solidFill>
                  <a:srgbClr val="ff0000"/>
                </a:solidFill>
                <a:latin typeface="Courier New"/>
              </a:rPr>
              <a:t>Advanced qualifiers</a:t>
            </a:r>
            <a:r>
              <a:rPr b="0" i="1" lang="en-GB" sz="1600" spc="-1" strike="noStrike">
                <a:solidFill>
                  <a:srgbClr val="010000"/>
                </a:solidFill>
                <a:latin typeface="Courier New"/>
              </a:rPr>
              <a:t>: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-[no]emboss bool      EMBOSS program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                         </a:t>
            </a:r>
            <a:r>
              <a:rPr b="0" lang="en-GB" sz="1600" spc="-1" strike="noStrike">
                <a:solidFill>
                  <a:srgbClr val="010000"/>
                </a:solidFill>
                <a:latin typeface="Courier New"/>
              </a:rPr>
              <a:t>documentation will be searched. </a:t>
            </a:r>
            <a:endParaRPr b="0" lang="en-US" sz="1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datory - required, are often parameters (in ‘[]’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ptional - use </a:t>
            </a:r>
            <a:r>
              <a:rPr b="1" lang="en-GB" sz="2800" spc="-1" strike="noStrike">
                <a:solidFill>
                  <a:srgbClr val="010000"/>
                </a:solidFill>
                <a:latin typeface="Arial"/>
              </a:rPr>
              <a:t>-opt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 to be prompted for these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dvanced - things that are not often used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3-19T17:13:46Z</cp:lastPrinted>
  <dcterms:modified xsi:type="dcterms:W3CDTF">2001-05-29T14:08:20Z</dcterms:modified>
  <cp:revision>9</cp:revision>
  <dc:subject/>
  <dc:title>Introduction to EMBOSS</dc:title>
</cp:coreProperties>
</file>