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22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19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0539AB-38EF-42B0-88BF-0E17D3BC0DD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8B778A-9BE7-47E8-B4DD-E47A399AE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DBA18B-E59D-4FD6-B1F1-E9AB38E8FE9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1262A2-E5A1-4AAD-8979-D4769F95E22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B6CD3-C644-46AB-A360-0D37E817F1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BB882-C001-4DDB-911B-BFB812A12B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5D77F6-95A6-4575-942F-8668540BB8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D9306-6105-491E-8248-A845F53DCDD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781691-57D9-4CCF-B4AB-6D0B52133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E631FC-C1A1-4A42-8AA5-2E5EDE3DA8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92879-D49E-476D-BB35-C05DE90944A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20A5B5-3A71-46F5-B487-571A6C4D61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DEDA79-BDEA-4A86-ACDE-819AE3B47237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GCG vs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general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debug    bool       write debug output to program.dbg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auto       bool       turn off prompt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tdout    bool      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filter       bool       read standard input, write standard outpu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ptions  bool       prompt for required and optional valu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verbose bool       report some/full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help       bool       report command line option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Data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uses ‘..’ to divide comments from data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does not use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 general, EMBOSS uses ‘#’ to mark a comment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‘embossdata’ to extract and check on data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 in GCG, data files copied into the current or home directory are used in preference to the original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milar to GCG lists files, but no ‘..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contain the names of other list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  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# This is my list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hsfa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embl:ggg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myfile.seq:clone10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file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US" sz="2800" spc="-1" strike="noStrike">
                <a:solidFill>
                  <a:srgbClr val="010000"/>
                </a:solidFill>
                <a:latin typeface="Courier New"/>
              </a:rPr>
              <a:t>@list2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ile format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GCG format, MSF and RS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many format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automatically recognis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an specify using ‘::’ or ‘-osf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g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lustal::globin.al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f gc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One file, many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ly one sequence per GCG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ne or more sequences per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Default is to write all sequences to one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-ossingle will change to writing many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, Staden and plain format files can only hold one sequence per file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Featur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No concept of feature tab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now write out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on, all programs that find things will write the results as GFF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FF will become another sequence forma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Programs to manipulate and display sets of features are plann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.f. showfeat, coderet, maskfeat, diffseq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poor at grouping many databases under one 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Need a way of referring to ‘embl’ and ‘emblnew’ as on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is will be done, but currently, a list file containing the following seems bes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	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new: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ommand line wildcard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no proble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  - UNIX complains it can’t find the fil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olution is to quote it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“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*”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: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l:\*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C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enman, genhel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fm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program does what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e David Martin’s list of equival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no.embnet.org/Programs/SAL/EMBOSS/fromGCG.php3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B this doesn’t list EMBOSS programs with no equivalent in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0"/>
            <a:ext cx="7010280" cy="1371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ich is better</a:t>
            </a:r>
            <a:br>
              <a:rPr sz="4800"/>
            </a:b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GCG or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599840"/>
            <a:ext cx="8458200" cy="5257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ust decide for yourselv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find other packages that do what you wa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e tools that do the jo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comparison of GCG and EMBOSS to help you decid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doe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NOT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major deficiencies in the EMBOSS package 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LAST, FASTA, ASSEMBL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hould use the publicly available softwar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Blast - NCBI, HGMP, many other sit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asta - HGMP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ssembly - Staden packag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EMBOSS </a:t>
            </a:r>
            <a:r>
              <a:rPr b="1" lang="en-US" sz="4800" spc="-1" strike="noStrike">
                <a:solidFill>
                  <a:srgbClr val="ff0000"/>
                </a:solidFill>
                <a:latin typeface="Arial Narrow"/>
              </a:rPr>
              <a:t>does</a:t>
            </a: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ing ‘stdout’ as the output file name makes output go to the scree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uch effort is put into removing arbitrary limi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.g. Max. sequence length: 2G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ny programs limited only by available memor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ource code available for inspection, change and writing your own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is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FRE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NU Public Lic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pen Source Softwar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2H available for both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still has rough edge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Others under developmen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mmand line is very similar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 UNIX command line interfaces of GCG and EMBOSS are very simila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type the name of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add any options you want to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ess the RETURN ke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mandatory information that was not on the command-line will be prompted for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CG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 -other=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This is the name program that reads a sequence and writes out something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NAME what sequence ?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Begin (* 1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End (* 2016 *) ?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	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verse (* No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What should I call the output        (* hsfau.name *) ?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2193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EMBOSS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% name -other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Reads in sequences and writes a thin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Input sequence(s): embl:hsfau1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Courier New"/>
              </a:rPr>
              <a:t>Output data [hsfau1.name]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‘-ask’ to make EMBOSS programs prompt for the start and end of sequen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0"/>
            <a:ext cx="8458200" cy="1295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ome common op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unning in scripts, don’t prompt, just fail if command-line is insufficien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defaul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aut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elp on option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check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help   or   -help -verbo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oolean options (Yes/No, True/Fals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GCG: -thing, -nothing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BOSS: -thing, -nothing, -thing=T, -thing=F,         -thing=1, -thing=0, -thing=Y, -thing=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-3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sequence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begin             integer     first base used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end                integer     last base used, def=seq length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reverse          bool         reverse (if DNA)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ask                 bool         ask for begin/end/rever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lower              bool         make low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supper             bool         make upper case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-sformat        string     in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ufo                   string       UFO feature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192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uence options in EMBOS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"-outseq" related qualifi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format           string     output sequence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-ossingle            bool       separate file for each entry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9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1T09:04:04Z</dcterms:modified>
  <cp:revision>13</cp:revision>
  <dc:subject/>
  <dc:title>Introduction to EMBOSS</dc:title>
</cp:coreProperties>
</file>