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61638"/>
        <c:axId val="43878652"/>
      </c:barChart>
      <c:catAx>
        <c:axId val="22961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78652"/>
        <c:crosses val="autoZero"/>
        <c:auto val="1"/>
        <c:lblAlgn val="ctr"/>
        <c:lblOffset val="100"/>
        <c:noMultiLvlLbl val="0"/>
      </c:catAx>
      <c:valAx>
        <c:axId val="43878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61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0B1-F979-4D11-B318-1826A6BF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6EC-201B-4A77-960C-B390ECDD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23-9537-4155-AEE8-BD211B82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DCF-755D-4B24-8998-8AB9074E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521-41F3-47A4-8697-56F50BFD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A34-0E6D-4350-A3F3-B4F5A0AF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697-7B51-4B04-B789-A8E912C7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74C-6E6A-4C4B-9510-E4E08D42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559-2B82-46D6-9442-D76A6C0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17A-C26B-498E-A92B-05FA2C31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408-AB3E-4730-8E1A-F41686BC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BDB-BF5C-4C59-A7EE-CCE13E3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AA35-FAE1-4078-B187-894356FC6C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